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51E40-840C-41ED-A4D3-29B871AE9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– 2 + 3 = 2 + 3 = 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+ 14 /2 = 0 + 7 = 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3 x 3 + 1 = 9 + 1 = 1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11 – 6 – 3 = 5 – 3 =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E707-DEC3-41A6-AA8F-9B0B643BB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BF52-0066-4164-AC27-50EF5E967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1C55-56E4-4E34-BDEB-D3C904EAC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DEB6-34C2-4C77-ACF9-3E74E62FE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E8060-6F26-4440-98A9-4C1742D93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B04D0-CF98-4B25-A97F-30969F65A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DAE0C-0E0A-4EA3-8E1C-FFDB055AC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92DA9-A190-4946-8585-FBAE19F7E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52B6B-7FD2-4796-9FE6-D5652749E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87D6C-1237-4ECD-B100-3D2D9AEE7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6C45C-E1F7-4DC7-88C8-35CCF1CE1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2ABF-A06D-4327-BDBB-C3D1755F6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F2DD0-FDFE-4911-89E7-C25AA97B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A4B27-27EF-49A3-8520-4358A9C75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8A64D-4B72-48CC-A553-068E59EAF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CF164-637C-410D-9356-53E8868FD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FCA3F-8C7C-4A93-8E3E-1622323E7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F3EA-67FF-41C3-BBF6-93108F13E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01E0-D0FE-4A8D-AC29-6CD41B640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B341-71D5-4CE4-8AD2-8355E048F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6AD1-0500-48FF-81C5-9B5B7A79E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9ED2-D732-453E-96FD-A7077694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24FE-6F2D-4F6C-99C3-6B70131C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BD12-8306-4198-B5A4-945124BEE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dfdfd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9EB3B-6C96-41F8-8BC6-50D57164C9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ED900-B3C8-4F81-B62B-FFFFE9DCDB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rainpop.org./" TargetMode="External"/><Relationship Id="rId2" Type="http://schemas.openxmlformats.org/officeDocument/2006/relationships/hyperlink" Target="http://www.brainpop.org./" TargetMode="External"/><Relationship Id="rId3" Type="http://schemas.openxmlformats.org/officeDocument/2006/relationships/hyperlink" Target="http://www.brainpop.org.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many different answers can you get for the following expression if you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on’t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llow the order of opera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3520" y="312408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  <a:ea typeface="Arial"/>
              </a:rPr>
              <a:t>12 + 15 ÷ 3 x 2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58880" y="60008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2108" y="16669"/>
                </a:moveTo>
                <a:lnTo>
                  <a:pt x="2108" y="16669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1120" y="3732120"/>
            <a:ext cx="1197000" cy="581040"/>
          </a:xfrm>
          <a:custGeom>
            <a:avLst/>
            <a:gdLst/>
            <a:ahLst/>
            <a:rect l="l" t="t" r="r" b="b"/>
            <a:pathLst>
              <a:path w="3325" h="1614">
                <a:moveTo>
                  <a:pt x="1166" y="10492"/>
                </a:moveTo>
                <a:cubicBezTo>
                  <a:pt x="1177" y="10695"/>
                  <a:pt x="1187" y="10818"/>
                  <a:pt x="1141" y="11013"/>
                </a:cubicBezTo>
              </a:path>
              <a:path w="3325" h="1614">
                <a:moveTo>
                  <a:pt x="2133" y="10443"/>
                </a:moveTo>
                <a:cubicBezTo>
                  <a:pt x="2177" y="10626"/>
                  <a:pt x="2193" y="10780"/>
                  <a:pt x="2158" y="10964"/>
                </a:cubicBezTo>
              </a:path>
              <a:path w="3325" h="1614">
                <a:moveTo>
                  <a:pt x="3994" y="10368"/>
                </a:moveTo>
                <a:cubicBezTo>
                  <a:pt x="3994" y="10385"/>
                  <a:pt x="3994" y="10401"/>
                  <a:pt x="3994" y="10418"/>
                </a:cubicBezTo>
              </a:path>
              <a:path w="3325" h="1614">
                <a:moveTo>
                  <a:pt x="4093" y="11063"/>
                </a:moveTo>
                <a:lnTo>
                  <a:pt x="4093" y="11063"/>
                </a:lnTo>
              </a:path>
              <a:path w="3325" h="1614">
                <a:moveTo>
                  <a:pt x="3349" y="11336"/>
                </a:moveTo>
                <a:cubicBezTo>
                  <a:pt x="3349" y="11352"/>
                  <a:pt x="3349" y="11369"/>
                  <a:pt x="3349" y="11385"/>
                </a:cubicBezTo>
              </a:path>
              <a:path w="3325" h="1614">
                <a:moveTo>
                  <a:pt x="3324" y="11956"/>
                </a:moveTo>
                <a:cubicBezTo>
                  <a:pt x="3324" y="11964"/>
                  <a:pt x="3324" y="11973"/>
                  <a:pt x="3324" y="11981"/>
                </a:cubicBezTo>
              </a:path>
              <a:path w="3325" h="1614">
                <a:moveTo>
                  <a:pt x="3324" y="11981"/>
                </a:moveTo>
                <a:lnTo>
                  <a:pt x="3324" y="11981"/>
                </a:lnTo>
              </a:path>
              <a:path w="3325" h="1614">
                <a:moveTo>
                  <a:pt x="4217" y="11633"/>
                </a:moveTo>
                <a:cubicBezTo>
                  <a:pt x="4267" y="11711"/>
                  <a:pt x="4382" y="11948"/>
                  <a:pt x="4465" y="11981"/>
                </a:cubicBezTo>
                <a:cubicBezTo>
                  <a:pt x="4465" y="11973"/>
                  <a:pt x="4465" y="11964"/>
                  <a:pt x="4465" y="11956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65120" y="3679920"/>
            <a:ext cx="1820880" cy="687240"/>
          </a:xfrm>
          <a:custGeom>
            <a:avLst/>
            <a:gdLst/>
            <a:ahLst/>
            <a:rect l="l" t="t" r="r" b="b"/>
            <a:pathLst>
              <a:path w="5061" h="1910">
                <a:moveTo>
                  <a:pt x="1315" y="10294"/>
                </a:moveTo>
                <a:cubicBezTo>
                  <a:pt x="1531" y="10173"/>
                  <a:pt x="1764" y="10219"/>
                  <a:pt x="1786" y="10542"/>
                </a:cubicBezTo>
                <a:cubicBezTo>
                  <a:pt x="1798" y="10723"/>
                  <a:pt x="1428" y="11085"/>
                  <a:pt x="1290" y="10864"/>
                </a:cubicBezTo>
                <a:cubicBezTo>
                  <a:pt x="1290" y="10831"/>
                  <a:pt x="1290" y="10798"/>
                  <a:pt x="1290" y="10765"/>
                </a:cubicBezTo>
                <a:cubicBezTo>
                  <a:pt x="1467" y="10647"/>
                  <a:pt x="1655" y="10513"/>
                  <a:pt x="1786" y="10790"/>
                </a:cubicBezTo>
                <a:cubicBezTo>
                  <a:pt x="1794" y="10831"/>
                  <a:pt x="1803" y="10873"/>
                  <a:pt x="1811" y="10914"/>
                </a:cubicBezTo>
              </a:path>
              <a:path w="5061" h="1910">
                <a:moveTo>
                  <a:pt x="2034" y="10716"/>
                </a:moveTo>
                <a:cubicBezTo>
                  <a:pt x="2183" y="10716"/>
                  <a:pt x="2331" y="10716"/>
                  <a:pt x="2480" y="10716"/>
                </a:cubicBezTo>
              </a:path>
              <a:path w="5061" h="1910">
                <a:moveTo>
                  <a:pt x="2753" y="10468"/>
                </a:moveTo>
                <a:cubicBezTo>
                  <a:pt x="2753" y="10667"/>
                  <a:pt x="2541" y="10998"/>
                  <a:pt x="2729" y="11063"/>
                </a:cubicBezTo>
                <a:cubicBezTo>
                  <a:pt x="2762" y="11038"/>
                  <a:pt x="2795" y="11013"/>
                  <a:pt x="2828" y="10988"/>
                </a:cubicBezTo>
              </a:path>
              <a:path w="5061" h="1910">
                <a:moveTo>
                  <a:pt x="3373" y="10393"/>
                </a:moveTo>
                <a:cubicBezTo>
                  <a:pt x="3306" y="10442"/>
                  <a:pt x="3140" y="10475"/>
                  <a:pt x="3101" y="10542"/>
                </a:cubicBezTo>
                <a:cubicBezTo>
                  <a:pt x="3073" y="10590"/>
                  <a:pt x="3060" y="10663"/>
                  <a:pt x="3051" y="10716"/>
                </a:cubicBezTo>
                <a:cubicBezTo>
                  <a:pt x="3173" y="10716"/>
                  <a:pt x="3404" y="10680"/>
                  <a:pt x="3473" y="10815"/>
                </a:cubicBezTo>
                <a:cubicBezTo>
                  <a:pt x="3573" y="11009"/>
                  <a:pt x="3282" y="11117"/>
                  <a:pt x="3150" y="11088"/>
                </a:cubicBezTo>
                <a:cubicBezTo>
                  <a:pt x="3125" y="11071"/>
                  <a:pt x="3101" y="11055"/>
                  <a:pt x="3076" y="11038"/>
                </a:cubicBezTo>
              </a:path>
              <a:path w="5061" h="1910">
                <a:moveTo>
                  <a:pt x="3795" y="10716"/>
                </a:moveTo>
                <a:cubicBezTo>
                  <a:pt x="3907" y="10699"/>
                  <a:pt x="4005" y="10691"/>
                  <a:pt x="4118" y="10691"/>
                </a:cubicBezTo>
              </a:path>
              <a:path w="5061" h="1910">
                <a:moveTo>
                  <a:pt x="4514" y="10492"/>
                </a:moveTo>
                <a:cubicBezTo>
                  <a:pt x="4641" y="10492"/>
                  <a:pt x="4797" y="10426"/>
                  <a:pt x="4812" y="10592"/>
                </a:cubicBezTo>
                <a:cubicBezTo>
                  <a:pt x="4823" y="10711"/>
                  <a:pt x="4719" y="10742"/>
                  <a:pt x="4638" y="10790"/>
                </a:cubicBezTo>
                <a:cubicBezTo>
                  <a:pt x="4715" y="10790"/>
                  <a:pt x="4865" y="10825"/>
                  <a:pt x="4887" y="10914"/>
                </a:cubicBezTo>
                <a:cubicBezTo>
                  <a:pt x="4926" y="11069"/>
                  <a:pt x="4599" y="11232"/>
                  <a:pt x="4514" y="11112"/>
                </a:cubicBezTo>
                <a:cubicBezTo>
                  <a:pt x="4522" y="11087"/>
                  <a:pt x="4531" y="11063"/>
                  <a:pt x="4539" y="11038"/>
                </a:cubicBezTo>
              </a:path>
              <a:path w="5061" h="1910">
                <a:moveTo>
                  <a:pt x="5234" y="10641"/>
                </a:moveTo>
                <a:cubicBezTo>
                  <a:pt x="5277" y="10803"/>
                  <a:pt x="5361" y="10892"/>
                  <a:pt x="5482" y="11013"/>
                </a:cubicBezTo>
              </a:path>
              <a:path w="5061" h="1910">
                <a:moveTo>
                  <a:pt x="5556" y="10567"/>
                </a:moveTo>
                <a:cubicBezTo>
                  <a:pt x="5453" y="10732"/>
                  <a:pt x="5329" y="10894"/>
                  <a:pt x="5234" y="11063"/>
                </a:cubicBezTo>
                <a:cubicBezTo>
                  <a:pt x="5211" y="11103"/>
                  <a:pt x="5293" y="11062"/>
                  <a:pt x="5333" y="11038"/>
                </a:cubicBezTo>
              </a:path>
              <a:path w="5061" h="1910">
                <a:moveTo>
                  <a:pt x="5953" y="10542"/>
                </a:moveTo>
                <a:cubicBezTo>
                  <a:pt x="6021" y="10528"/>
                  <a:pt x="6081" y="10500"/>
                  <a:pt x="6152" y="10492"/>
                </a:cubicBezTo>
                <a:cubicBezTo>
                  <a:pt x="6188" y="10715"/>
                  <a:pt x="6083" y="10836"/>
                  <a:pt x="5953" y="11013"/>
                </a:cubicBezTo>
                <a:cubicBezTo>
                  <a:pt x="5899" y="11086"/>
                  <a:pt x="5874" y="11086"/>
                  <a:pt x="5879" y="11137"/>
                </a:cubicBezTo>
                <a:cubicBezTo>
                  <a:pt x="6029" y="11127"/>
                  <a:pt x="6174" y="11112"/>
                  <a:pt x="6325" y="11112"/>
                </a:cubicBezTo>
                <a:cubicBezTo>
                  <a:pt x="6333" y="11112"/>
                  <a:pt x="6342" y="11112"/>
                  <a:pt x="6350" y="11112"/>
                </a:cubicBezTo>
              </a:path>
              <a:path w="5061" h="1910">
                <a:moveTo>
                  <a:pt x="1662" y="11112"/>
                </a:moveTo>
                <a:cubicBezTo>
                  <a:pt x="1679" y="11179"/>
                  <a:pt x="1687" y="11217"/>
                  <a:pt x="1687" y="11286"/>
                </a:cubicBezTo>
                <a:cubicBezTo>
                  <a:pt x="1998" y="11312"/>
                  <a:pt x="2291" y="11212"/>
                  <a:pt x="2604" y="11212"/>
                </a:cubicBezTo>
                <a:cubicBezTo>
                  <a:pt x="2653" y="11212"/>
                  <a:pt x="2878" y="11285"/>
                  <a:pt x="2902" y="11212"/>
                </a:cubicBezTo>
                <a:cubicBezTo>
                  <a:pt x="2916" y="11169"/>
                  <a:pt x="2952" y="10950"/>
                  <a:pt x="2952" y="11013"/>
                </a:cubicBezTo>
              </a:path>
              <a:path w="5061" h="1910">
                <a:moveTo>
                  <a:pt x="1885" y="11534"/>
                </a:moveTo>
                <a:cubicBezTo>
                  <a:pt x="2011" y="11602"/>
                  <a:pt x="2202" y="11737"/>
                  <a:pt x="2059" y="11906"/>
                </a:cubicBezTo>
                <a:cubicBezTo>
                  <a:pt x="1961" y="12021"/>
                  <a:pt x="1800" y="12080"/>
                  <a:pt x="1712" y="11956"/>
                </a:cubicBezTo>
                <a:cubicBezTo>
                  <a:pt x="1877" y="11920"/>
                  <a:pt x="1958" y="12004"/>
                  <a:pt x="2108" y="12005"/>
                </a:cubicBezTo>
                <a:cubicBezTo>
                  <a:pt x="2125" y="11997"/>
                  <a:pt x="2141" y="11989"/>
                  <a:pt x="2158" y="11981"/>
                </a:cubicBezTo>
              </a:path>
              <a:path w="5061" h="1910">
                <a:moveTo>
                  <a:pt x="2108" y="11584"/>
                </a:moveTo>
                <a:cubicBezTo>
                  <a:pt x="2199" y="11575"/>
                  <a:pt x="2436" y="11474"/>
                  <a:pt x="2505" y="11559"/>
                </a:cubicBezTo>
                <a:cubicBezTo>
                  <a:pt x="2570" y="11638"/>
                  <a:pt x="2448" y="11936"/>
                  <a:pt x="2431" y="12030"/>
                </a:cubicBezTo>
                <a:cubicBezTo>
                  <a:pt x="2431" y="12038"/>
                  <a:pt x="2431" y="12047"/>
                  <a:pt x="2431" y="12055"/>
                </a:cubicBezTo>
              </a:path>
              <a:path w="5061" h="1910">
                <a:moveTo>
                  <a:pt x="2977" y="11832"/>
                </a:moveTo>
                <a:cubicBezTo>
                  <a:pt x="3148" y="11800"/>
                  <a:pt x="3323" y="11791"/>
                  <a:pt x="3497" y="11757"/>
                </a:cubicBezTo>
              </a:path>
              <a:path w="5061" h="1910">
                <a:moveTo>
                  <a:pt x="3671" y="11584"/>
                </a:moveTo>
                <a:cubicBezTo>
                  <a:pt x="3807" y="11567"/>
                  <a:pt x="3972" y="11575"/>
                  <a:pt x="3820" y="11757"/>
                </a:cubicBezTo>
                <a:cubicBezTo>
                  <a:pt x="3795" y="11774"/>
                  <a:pt x="3771" y="11790"/>
                  <a:pt x="3746" y="11807"/>
                </a:cubicBezTo>
                <a:cubicBezTo>
                  <a:pt x="3746" y="11815"/>
                  <a:pt x="3746" y="11824"/>
                  <a:pt x="3746" y="11832"/>
                </a:cubicBezTo>
                <a:cubicBezTo>
                  <a:pt x="3883" y="11832"/>
                  <a:pt x="3994" y="11838"/>
                  <a:pt x="3944" y="12005"/>
                </a:cubicBezTo>
                <a:cubicBezTo>
                  <a:pt x="3905" y="12134"/>
                  <a:pt x="3796" y="12137"/>
                  <a:pt x="3696" y="12105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880" y="3643200"/>
            <a:ext cx="7099200" cy="1805040"/>
          </a:xfrm>
          <a:custGeom>
            <a:avLst/>
            <a:gdLst/>
            <a:ahLst/>
            <a:rect l="l" t="t" r="r" b="b"/>
            <a:pathLst>
              <a:path w="19721" h="5012">
                <a:moveTo>
                  <a:pt x="4490" y="11633"/>
                </a:moveTo>
                <a:cubicBezTo>
                  <a:pt x="4431" y="11770"/>
                  <a:pt x="4152" y="11976"/>
                  <a:pt x="4291" y="12030"/>
                </a:cubicBezTo>
                <a:cubicBezTo>
                  <a:pt x="4308" y="12022"/>
                  <a:pt x="4324" y="12013"/>
                  <a:pt x="4341" y="12005"/>
                </a:cubicBezTo>
              </a:path>
              <a:path w="19721" h="5012">
                <a:moveTo>
                  <a:pt x="4787" y="11584"/>
                </a:moveTo>
                <a:cubicBezTo>
                  <a:pt x="4864" y="11573"/>
                  <a:pt x="5105" y="11538"/>
                  <a:pt x="5060" y="11708"/>
                </a:cubicBezTo>
                <a:cubicBezTo>
                  <a:pt x="5034" y="11806"/>
                  <a:pt x="4926" y="11908"/>
                  <a:pt x="4862" y="11981"/>
                </a:cubicBezTo>
                <a:cubicBezTo>
                  <a:pt x="4961" y="11981"/>
                  <a:pt x="5060" y="11981"/>
                  <a:pt x="5159" y="11981"/>
                </a:cubicBezTo>
              </a:path>
              <a:path w="19721" h="5012">
                <a:moveTo>
                  <a:pt x="3944" y="12303"/>
                </a:moveTo>
                <a:cubicBezTo>
                  <a:pt x="3952" y="12328"/>
                  <a:pt x="3961" y="12353"/>
                  <a:pt x="3969" y="12378"/>
                </a:cubicBezTo>
                <a:cubicBezTo>
                  <a:pt x="4262" y="12325"/>
                  <a:pt x="4539" y="12285"/>
                  <a:pt x="4837" y="12278"/>
                </a:cubicBezTo>
                <a:cubicBezTo>
                  <a:pt x="4923" y="12276"/>
                  <a:pt x="4916" y="12279"/>
                  <a:pt x="4936" y="12179"/>
                </a:cubicBezTo>
                <a:cubicBezTo>
                  <a:pt x="4936" y="12171"/>
                  <a:pt x="4936" y="12162"/>
                  <a:pt x="4936" y="12154"/>
                </a:cubicBezTo>
              </a:path>
              <a:path w="19721" h="5012">
                <a:moveTo>
                  <a:pt x="4217" y="12576"/>
                </a:moveTo>
                <a:cubicBezTo>
                  <a:pt x="4185" y="12687"/>
                  <a:pt x="4078" y="12824"/>
                  <a:pt x="4093" y="12948"/>
                </a:cubicBezTo>
                <a:cubicBezTo>
                  <a:pt x="4120" y="13166"/>
                  <a:pt x="4408" y="13115"/>
                  <a:pt x="4539" y="13047"/>
                </a:cubicBezTo>
                <a:cubicBezTo>
                  <a:pt x="4636" y="12969"/>
                  <a:pt x="4662" y="12967"/>
                  <a:pt x="4688" y="12898"/>
                </a:cubicBezTo>
                <a:cubicBezTo>
                  <a:pt x="4587" y="12813"/>
                  <a:pt x="4467" y="12838"/>
                  <a:pt x="4390" y="12973"/>
                </a:cubicBezTo>
                <a:cubicBezTo>
                  <a:pt x="4390" y="12989"/>
                  <a:pt x="4390" y="13006"/>
                  <a:pt x="4390" y="13022"/>
                </a:cubicBezTo>
              </a:path>
              <a:path w="19721" h="5012">
                <a:moveTo>
                  <a:pt x="2183" y="12799"/>
                </a:moveTo>
                <a:cubicBezTo>
                  <a:pt x="2278" y="12704"/>
                  <a:pt x="2468" y="12764"/>
                  <a:pt x="2505" y="12923"/>
                </a:cubicBezTo>
                <a:cubicBezTo>
                  <a:pt x="2566" y="13182"/>
                  <a:pt x="2170" y="13196"/>
                  <a:pt x="2034" y="13196"/>
                </a:cubicBezTo>
                <a:cubicBezTo>
                  <a:pt x="2034" y="13076"/>
                  <a:pt x="2222" y="13083"/>
                  <a:pt x="2307" y="13097"/>
                </a:cubicBezTo>
                <a:cubicBezTo>
                  <a:pt x="2413" y="13114"/>
                  <a:pt x="2420" y="13159"/>
                  <a:pt x="2505" y="13171"/>
                </a:cubicBezTo>
              </a:path>
              <a:path w="19721" h="5012">
                <a:moveTo>
                  <a:pt x="2604" y="12774"/>
                </a:moveTo>
                <a:cubicBezTo>
                  <a:pt x="2738" y="12751"/>
                  <a:pt x="2864" y="12750"/>
                  <a:pt x="3001" y="12750"/>
                </a:cubicBezTo>
                <a:cubicBezTo>
                  <a:pt x="2981" y="12892"/>
                  <a:pt x="2904" y="13005"/>
                  <a:pt x="2877" y="13146"/>
                </a:cubicBezTo>
                <a:cubicBezTo>
                  <a:pt x="2877" y="13188"/>
                  <a:pt x="2877" y="13196"/>
                  <a:pt x="2877" y="13221"/>
                </a:cubicBezTo>
              </a:path>
              <a:path w="19721" h="5012">
                <a:moveTo>
                  <a:pt x="3349" y="12973"/>
                </a:moveTo>
                <a:cubicBezTo>
                  <a:pt x="3427" y="12947"/>
                  <a:pt x="3568" y="12954"/>
                  <a:pt x="3671" y="12948"/>
                </a:cubicBezTo>
              </a:path>
              <a:path w="19721" h="5012">
                <a:moveTo>
                  <a:pt x="3448" y="12700"/>
                </a:moveTo>
                <a:cubicBezTo>
                  <a:pt x="3448" y="12708"/>
                  <a:pt x="3448" y="12717"/>
                  <a:pt x="3448" y="12725"/>
                </a:cubicBezTo>
              </a:path>
              <a:path w="19721" h="5012">
                <a:moveTo>
                  <a:pt x="3572" y="13171"/>
                </a:moveTo>
                <a:cubicBezTo>
                  <a:pt x="3572" y="13179"/>
                  <a:pt x="3572" y="13188"/>
                  <a:pt x="3572" y="13196"/>
                </a:cubicBezTo>
              </a:path>
              <a:path w="19721" h="5012">
                <a:moveTo>
                  <a:pt x="3001" y="13494"/>
                </a:moveTo>
                <a:cubicBezTo>
                  <a:pt x="3001" y="13610"/>
                  <a:pt x="3001" y="13725"/>
                  <a:pt x="3001" y="13841"/>
                </a:cubicBezTo>
                <a:cubicBezTo>
                  <a:pt x="3268" y="13820"/>
                  <a:pt x="3528" y="13737"/>
                  <a:pt x="3795" y="13717"/>
                </a:cubicBezTo>
                <a:cubicBezTo>
                  <a:pt x="3939" y="13706"/>
                  <a:pt x="4160" y="13824"/>
                  <a:pt x="4217" y="13692"/>
                </a:cubicBezTo>
                <a:cubicBezTo>
                  <a:pt x="4251" y="13614"/>
                  <a:pt x="4256" y="13497"/>
                  <a:pt x="4291" y="13419"/>
                </a:cubicBezTo>
                <a:cubicBezTo>
                  <a:pt x="4315" y="13365"/>
                  <a:pt x="4298" y="13413"/>
                  <a:pt x="4316" y="13419"/>
                </a:cubicBezTo>
              </a:path>
              <a:path w="19721" h="5012">
                <a:moveTo>
                  <a:pt x="3150" y="14312"/>
                </a:moveTo>
                <a:cubicBezTo>
                  <a:pt x="3150" y="14211"/>
                  <a:pt x="3111" y="14460"/>
                  <a:pt x="3101" y="14560"/>
                </a:cubicBezTo>
                <a:cubicBezTo>
                  <a:pt x="3083" y="14736"/>
                  <a:pt x="3276" y="14631"/>
                  <a:pt x="3373" y="14610"/>
                </a:cubicBezTo>
                <a:cubicBezTo>
                  <a:pt x="3416" y="14610"/>
                  <a:pt x="3430" y="14593"/>
                  <a:pt x="3423" y="14536"/>
                </a:cubicBezTo>
              </a:path>
              <a:path w="19721" h="5012">
                <a:moveTo>
                  <a:pt x="3473" y="14213"/>
                </a:moveTo>
                <a:cubicBezTo>
                  <a:pt x="3450" y="14429"/>
                  <a:pt x="3448" y="14640"/>
                  <a:pt x="3448" y="14858"/>
                </a:cubicBezTo>
                <a:cubicBezTo>
                  <a:pt x="3448" y="14866"/>
                  <a:pt x="3448" y="14875"/>
                  <a:pt x="3448" y="14883"/>
                </a:cubicBezTo>
              </a:path>
              <a:path w="19721" h="5012">
                <a:moveTo>
                  <a:pt x="3770" y="14784"/>
                </a:moveTo>
                <a:cubicBezTo>
                  <a:pt x="3727" y="14784"/>
                  <a:pt x="3794" y="14779"/>
                  <a:pt x="3820" y="14759"/>
                </a:cubicBezTo>
                <a:cubicBezTo>
                  <a:pt x="3757" y="14775"/>
                  <a:pt x="3748" y="14772"/>
                  <a:pt x="3845" y="14784"/>
                </a:cubicBezTo>
              </a:path>
              <a:path w="19721" h="5012">
                <a:moveTo>
                  <a:pt x="21456" y="10145"/>
                </a:moveTo>
                <a:cubicBezTo>
                  <a:pt x="21538" y="10279"/>
                  <a:pt x="21620" y="10416"/>
                  <a:pt x="21754" y="10492"/>
                </a:cubicBezTo>
              </a:path>
              <a:path w="19721" h="5012">
                <a:moveTo>
                  <a:pt x="21729" y="10120"/>
                </a:moveTo>
                <a:cubicBezTo>
                  <a:pt x="21694" y="10271"/>
                  <a:pt x="21641" y="10419"/>
                  <a:pt x="21605" y="10567"/>
                </a:cubicBezTo>
              </a:path>
              <a:path w="19721" h="5012">
                <a:moveTo>
                  <a:pt x="19943" y="11311"/>
                </a:moveTo>
                <a:cubicBezTo>
                  <a:pt x="19960" y="11336"/>
                  <a:pt x="19976" y="11360"/>
                  <a:pt x="19993" y="11385"/>
                </a:cubicBezTo>
              </a:path>
              <a:path w="19721" h="5012">
                <a:moveTo>
                  <a:pt x="20117" y="11733"/>
                </a:moveTo>
                <a:cubicBezTo>
                  <a:pt x="20142" y="11733"/>
                  <a:pt x="20166" y="11733"/>
                  <a:pt x="20191" y="11733"/>
                </a:cubicBezTo>
              </a:path>
              <a:path w="19721" h="5012">
                <a:moveTo>
                  <a:pt x="20191" y="11733"/>
                </a:moveTo>
                <a:lnTo>
                  <a:pt x="20191" y="11733"/>
                </a:lnTo>
              </a:path>
              <a:path w="19721" h="5012">
                <a:moveTo>
                  <a:pt x="21208" y="11385"/>
                </a:moveTo>
                <a:cubicBezTo>
                  <a:pt x="21276" y="11521"/>
                  <a:pt x="21344" y="11629"/>
                  <a:pt x="21481" y="11683"/>
                </a:cubicBezTo>
              </a:path>
              <a:path w="19721" h="5012">
                <a:moveTo>
                  <a:pt x="20340" y="13915"/>
                </a:moveTo>
                <a:cubicBezTo>
                  <a:pt x="20383" y="14047"/>
                  <a:pt x="20427" y="14175"/>
                  <a:pt x="20464" y="14312"/>
                </a:cubicBezTo>
              </a:path>
              <a:path w="19721" h="5012">
                <a:moveTo>
                  <a:pt x="5035" y="14387"/>
                </a:moveTo>
                <a:cubicBezTo>
                  <a:pt x="5209" y="14522"/>
                  <a:pt x="5397" y="14663"/>
                  <a:pt x="5581" y="14784"/>
                </a:cubicBezTo>
                <a:cubicBezTo>
                  <a:pt x="5645" y="14826"/>
                  <a:pt x="5691" y="14861"/>
                  <a:pt x="5705" y="14833"/>
                </a:cubicBezTo>
              </a:path>
              <a:path w="19721" h="5012">
                <a:moveTo>
                  <a:pt x="5457" y="14288"/>
                </a:moveTo>
                <a:cubicBezTo>
                  <a:pt x="5425" y="14560"/>
                  <a:pt x="5371" y="14832"/>
                  <a:pt x="5358" y="15106"/>
                </a:cubicBezTo>
                <a:cubicBezTo>
                  <a:pt x="5358" y="15114"/>
                  <a:pt x="5358" y="15123"/>
                  <a:pt x="5358" y="15131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044960" y="3625920"/>
            <a:ext cx="1357200" cy="2062080"/>
          </a:xfrm>
          <a:custGeom>
            <a:avLst/>
            <a:gdLst/>
            <a:ahLst/>
            <a:rect l="l" t="t" r="r" b="b"/>
            <a:pathLst>
              <a:path w="3771" h="5731">
                <a:moveTo>
                  <a:pt x="13841" y="11212"/>
                </a:moveTo>
                <a:cubicBezTo>
                  <a:pt x="13939" y="11310"/>
                  <a:pt x="14101" y="11550"/>
                  <a:pt x="14238" y="11584"/>
                </a:cubicBezTo>
                <a:cubicBezTo>
                  <a:pt x="14238" y="11576"/>
                  <a:pt x="14238" y="11567"/>
                  <a:pt x="14238" y="11559"/>
                </a:cubicBezTo>
              </a:path>
              <a:path w="3771" h="5731">
                <a:moveTo>
                  <a:pt x="14188" y="11137"/>
                </a:moveTo>
                <a:cubicBezTo>
                  <a:pt x="14135" y="11298"/>
                  <a:pt x="14042" y="11479"/>
                  <a:pt x="13965" y="11633"/>
                </a:cubicBezTo>
                <a:cubicBezTo>
                  <a:pt x="13942" y="11656"/>
                  <a:pt x="13934" y="11667"/>
                  <a:pt x="13940" y="11633"/>
                </a:cubicBezTo>
              </a:path>
              <a:path w="3771" h="5731">
                <a:moveTo>
                  <a:pt x="14511" y="11088"/>
                </a:moveTo>
                <a:cubicBezTo>
                  <a:pt x="14555" y="11077"/>
                  <a:pt x="14591" y="11038"/>
                  <a:pt x="14635" y="11013"/>
                </a:cubicBezTo>
                <a:cubicBezTo>
                  <a:pt x="14720" y="11109"/>
                  <a:pt x="14810" y="11223"/>
                  <a:pt x="14734" y="11361"/>
                </a:cubicBezTo>
                <a:cubicBezTo>
                  <a:pt x="14664" y="11488"/>
                  <a:pt x="14563" y="11609"/>
                  <a:pt x="14486" y="11733"/>
                </a:cubicBezTo>
                <a:cubicBezTo>
                  <a:pt x="14536" y="11716"/>
                  <a:pt x="14527" y="11624"/>
                  <a:pt x="14585" y="11584"/>
                </a:cubicBezTo>
                <a:cubicBezTo>
                  <a:pt x="14631" y="11552"/>
                  <a:pt x="14761" y="11650"/>
                  <a:pt x="14808" y="11658"/>
                </a:cubicBezTo>
                <a:cubicBezTo>
                  <a:pt x="14884" y="11671"/>
                  <a:pt x="14977" y="11644"/>
                  <a:pt x="15007" y="11584"/>
                </a:cubicBezTo>
              </a:path>
              <a:path w="3771" h="5731">
                <a:moveTo>
                  <a:pt x="12427" y="10071"/>
                </a:moveTo>
                <a:cubicBezTo>
                  <a:pt x="12432" y="10148"/>
                  <a:pt x="12444" y="10218"/>
                  <a:pt x="12452" y="10294"/>
                </a:cubicBezTo>
                <a:cubicBezTo>
                  <a:pt x="12456" y="10334"/>
                  <a:pt x="12452" y="10378"/>
                  <a:pt x="12452" y="10418"/>
                </a:cubicBezTo>
                <a:cubicBezTo>
                  <a:pt x="12613" y="10418"/>
                  <a:pt x="12764" y="10391"/>
                  <a:pt x="12923" y="10368"/>
                </a:cubicBezTo>
                <a:cubicBezTo>
                  <a:pt x="13115" y="10341"/>
                  <a:pt x="13301" y="10344"/>
                  <a:pt x="13494" y="10344"/>
                </a:cubicBezTo>
                <a:cubicBezTo>
                  <a:pt x="13638" y="10344"/>
                  <a:pt x="13775" y="10352"/>
                  <a:pt x="13915" y="10368"/>
                </a:cubicBezTo>
                <a:cubicBezTo>
                  <a:pt x="13965" y="10374"/>
                  <a:pt x="14100" y="10391"/>
                  <a:pt x="14114" y="10393"/>
                </a:cubicBezTo>
                <a:cubicBezTo>
                  <a:pt x="14211" y="10407"/>
                  <a:pt x="14361" y="10507"/>
                  <a:pt x="14461" y="10468"/>
                </a:cubicBezTo>
                <a:cubicBezTo>
                  <a:pt x="14491" y="10456"/>
                  <a:pt x="14530" y="10410"/>
                  <a:pt x="14536" y="10393"/>
                </a:cubicBezTo>
                <a:cubicBezTo>
                  <a:pt x="14557" y="10331"/>
                  <a:pt x="14514" y="10256"/>
                  <a:pt x="14511" y="10195"/>
                </a:cubicBezTo>
                <a:cubicBezTo>
                  <a:pt x="14510" y="10170"/>
                  <a:pt x="14511" y="10145"/>
                  <a:pt x="14511" y="10120"/>
                </a:cubicBezTo>
              </a:path>
              <a:path w="3771" h="5731">
                <a:moveTo>
                  <a:pt x="13122" y="11906"/>
                </a:moveTo>
                <a:cubicBezTo>
                  <a:pt x="13107" y="11942"/>
                  <a:pt x="13078" y="12082"/>
                  <a:pt x="13072" y="12154"/>
                </a:cubicBezTo>
                <a:cubicBezTo>
                  <a:pt x="13072" y="12212"/>
                  <a:pt x="13072" y="12221"/>
                  <a:pt x="13072" y="12254"/>
                </a:cubicBezTo>
                <a:cubicBezTo>
                  <a:pt x="13236" y="12254"/>
                  <a:pt x="13406" y="12246"/>
                  <a:pt x="13568" y="12229"/>
                </a:cubicBezTo>
                <a:cubicBezTo>
                  <a:pt x="13774" y="12207"/>
                  <a:pt x="13983" y="12227"/>
                  <a:pt x="14188" y="12204"/>
                </a:cubicBezTo>
                <a:cubicBezTo>
                  <a:pt x="14266" y="12195"/>
                  <a:pt x="14333" y="12179"/>
                  <a:pt x="14412" y="12179"/>
                </a:cubicBezTo>
                <a:cubicBezTo>
                  <a:pt x="14420" y="12179"/>
                  <a:pt x="14428" y="12179"/>
                  <a:pt x="14436" y="12179"/>
                </a:cubicBezTo>
                <a:cubicBezTo>
                  <a:pt x="14436" y="12068"/>
                  <a:pt x="14449" y="11966"/>
                  <a:pt x="14461" y="11857"/>
                </a:cubicBezTo>
                <a:cubicBezTo>
                  <a:pt x="14465" y="11824"/>
                  <a:pt x="14461" y="11840"/>
                  <a:pt x="14461" y="11807"/>
                </a:cubicBezTo>
                <a:cubicBezTo>
                  <a:pt x="14461" y="11799"/>
                  <a:pt x="14461" y="11790"/>
                  <a:pt x="14461" y="11782"/>
                </a:cubicBezTo>
              </a:path>
              <a:path w="3771" h="5731">
                <a:moveTo>
                  <a:pt x="13494" y="12626"/>
                </a:moveTo>
                <a:cubicBezTo>
                  <a:pt x="13582" y="12769"/>
                  <a:pt x="13536" y="13007"/>
                  <a:pt x="13519" y="13171"/>
                </a:cubicBezTo>
                <a:cubicBezTo>
                  <a:pt x="13512" y="13238"/>
                  <a:pt x="13494" y="13387"/>
                  <a:pt x="13494" y="13320"/>
                </a:cubicBezTo>
              </a:path>
              <a:path w="3771" h="5731">
                <a:moveTo>
                  <a:pt x="13940" y="12725"/>
                </a:moveTo>
                <a:cubicBezTo>
                  <a:pt x="13846" y="12896"/>
                  <a:pt x="13753" y="13065"/>
                  <a:pt x="13791" y="13271"/>
                </a:cubicBezTo>
                <a:cubicBezTo>
                  <a:pt x="13808" y="13296"/>
                  <a:pt x="13824" y="13320"/>
                  <a:pt x="13841" y="13345"/>
                </a:cubicBezTo>
                <a:cubicBezTo>
                  <a:pt x="14069" y="13272"/>
                  <a:pt x="14344" y="13171"/>
                  <a:pt x="14213" y="12874"/>
                </a:cubicBezTo>
                <a:cubicBezTo>
                  <a:pt x="14114" y="12750"/>
                  <a:pt x="14082" y="12709"/>
                  <a:pt x="13965" y="12700"/>
                </a:cubicBezTo>
              </a:path>
              <a:path w="3771" h="5731">
                <a:moveTo>
                  <a:pt x="11733" y="12824"/>
                </a:moveTo>
                <a:cubicBezTo>
                  <a:pt x="11947" y="12896"/>
                  <a:pt x="12173" y="12991"/>
                  <a:pt x="12080" y="13271"/>
                </a:cubicBezTo>
                <a:cubicBezTo>
                  <a:pt x="12009" y="13484"/>
                  <a:pt x="11878" y="13452"/>
                  <a:pt x="11708" y="13444"/>
                </a:cubicBezTo>
                <a:cubicBezTo>
                  <a:pt x="11721" y="13274"/>
                  <a:pt x="11740" y="13228"/>
                  <a:pt x="11931" y="13246"/>
                </a:cubicBezTo>
                <a:cubicBezTo>
                  <a:pt x="12104" y="13262"/>
                  <a:pt x="12138" y="13339"/>
                  <a:pt x="12154" y="13494"/>
                </a:cubicBezTo>
              </a:path>
              <a:path w="3771" h="5731">
                <a:moveTo>
                  <a:pt x="12601" y="12923"/>
                </a:moveTo>
                <a:cubicBezTo>
                  <a:pt x="12601" y="13072"/>
                  <a:pt x="12601" y="13221"/>
                  <a:pt x="12601" y="13370"/>
                </a:cubicBezTo>
              </a:path>
              <a:path w="3771" h="5731">
                <a:moveTo>
                  <a:pt x="12402" y="13122"/>
                </a:moveTo>
                <a:cubicBezTo>
                  <a:pt x="12513" y="13162"/>
                  <a:pt x="12627" y="13128"/>
                  <a:pt x="12750" y="13122"/>
                </a:cubicBezTo>
                <a:cubicBezTo>
                  <a:pt x="12758" y="13122"/>
                  <a:pt x="12766" y="13122"/>
                  <a:pt x="12774" y="13122"/>
                </a:cubicBezTo>
              </a:path>
              <a:path w="3771" h="5731">
                <a:moveTo>
                  <a:pt x="11931" y="13593"/>
                </a:moveTo>
                <a:cubicBezTo>
                  <a:pt x="11946" y="13722"/>
                  <a:pt x="11956" y="13836"/>
                  <a:pt x="11956" y="13965"/>
                </a:cubicBezTo>
                <a:cubicBezTo>
                  <a:pt x="12110" y="13965"/>
                  <a:pt x="12219" y="13938"/>
                  <a:pt x="12378" y="13915"/>
                </a:cubicBezTo>
                <a:cubicBezTo>
                  <a:pt x="12699" y="13869"/>
                  <a:pt x="13003" y="13831"/>
                  <a:pt x="13320" y="13866"/>
                </a:cubicBezTo>
                <a:cubicBezTo>
                  <a:pt x="13410" y="13876"/>
                  <a:pt x="13348" y="13830"/>
                  <a:pt x="13345" y="13767"/>
                </a:cubicBezTo>
                <a:cubicBezTo>
                  <a:pt x="13345" y="13617"/>
                  <a:pt x="13339" y="13582"/>
                  <a:pt x="13370" y="13494"/>
                </a:cubicBezTo>
              </a:path>
              <a:path w="3771" h="5731">
                <a:moveTo>
                  <a:pt x="12129" y="14387"/>
                </a:moveTo>
                <a:cubicBezTo>
                  <a:pt x="12348" y="14438"/>
                  <a:pt x="12516" y="14601"/>
                  <a:pt x="12378" y="14858"/>
                </a:cubicBezTo>
                <a:cubicBezTo>
                  <a:pt x="12240" y="15115"/>
                  <a:pt x="11989" y="15246"/>
                  <a:pt x="11757" y="15131"/>
                </a:cubicBezTo>
                <a:cubicBezTo>
                  <a:pt x="11804" y="14920"/>
                  <a:pt x="11961" y="14839"/>
                  <a:pt x="12204" y="14932"/>
                </a:cubicBezTo>
                <a:cubicBezTo>
                  <a:pt x="12328" y="15015"/>
                  <a:pt x="12361" y="15023"/>
                  <a:pt x="12402" y="15106"/>
                </a:cubicBezTo>
              </a:path>
              <a:path w="3771" h="5731">
                <a:moveTo>
                  <a:pt x="12551" y="14486"/>
                </a:moveTo>
                <a:cubicBezTo>
                  <a:pt x="12710" y="14375"/>
                  <a:pt x="12862" y="14405"/>
                  <a:pt x="12948" y="14610"/>
                </a:cubicBezTo>
                <a:cubicBezTo>
                  <a:pt x="13033" y="14813"/>
                  <a:pt x="12859" y="15223"/>
                  <a:pt x="12601" y="15205"/>
                </a:cubicBezTo>
                <a:cubicBezTo>
                  <a:pt x="12593" y="15180"/>
                  <a:pt x="12584" y="15156"/>
                  <a:pt x="12576" y="15131"/>
                </a:cubicBezTo>
                <a:cubicBezTo>
                  <a:pt x="12655" y="14893"/>
                  <a:pt x="12710" y="14906"/>
                  <a:pt x="12923" y="15056"/>
                </a:cubicBezTo>
                <a:cubicBezTo>
                  <a:pt x="13029" y="15141"/>
                  <a:pt x="13057" y="15155"/>
                  <a:pt x="13097" y="15230"/>
                </a:cubicBezTo>
              </a:path>
              <a:path w="3771" h="5731">
                <a:moveTo>
                  <a:pt x="11237" y="15503"/>
                </a:moveTo>
                <a:cubicBezTo>
                  <a:pt x="11566" y="15674"/>
                  <a:pt x="11899" y="15762"/>
                  <a:pt x="12278" y="15751"/>
                </a:cubicBezTo>
                <a:cubicBezTo>
                  <a:pt x="12800" y="15736"/>
                  <a:pt x="13371" y="15655"/>
                  <a:pt x="13667" y="15180"/>
                </a:cubicBezTo>
                <a:cubicBezTo>
                  <a:pt x="13955" y="14718"/>
                  <a:pt x="13719" y="14340"/>
                  <a:pt x="13246" y="14163"/>
                </a:cubicBezTo>
                <a:cubicBezTo>
                  <a:pt x="12813" y="14001"/>
                  <a:pt x="12287" y="13997"/>
                  <a:pt x="11857" y="14163"/>
                </a:cubicBezTo>
                <a:cubicBezTo>
                  <a:pt x="11400" y="14340"/>
                  <a:pt x="11200" y="14806"/>
                  <a:pt x="11286" y="15280"/>
                </a:cubicBezTo>
                <a:cubicBezTo>
                  <a:pt x="11339" y="15571"/>
                  <a:pt x="11486" y="15782"/>
                  <a:pt x="11708" y="15652"/>
                </a:cubicBezTo>
              </a:path>
              <a:path w="3771" h="5731">
                <a:moveTo>
                  <a:pt x="13891" y="15602"/>
                </a:moveTo>
                <a:cubicBezTo>
                  <a:pt x="13945" y="15729"/>
                  <a:pt x="13933" y="15751"/>
                  <a:pt x="13990" y="15801"/>
                </a:cubicBezTo>
                <a:cubicBezTo>
                  <a:pt x="14190" y="15449"/>
                  <a:pt x="14319" y="15177"/>
                  <a:pt x="14709" y="14982"/>
                </a:cubicBezTo>
                <a:cubicBezTo>
                  <a:pt x="14792" y="14965"/>
                  <a:pt x="14874" y="14949"/>
                  <a:pt x="14957" y="14932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545160" y="3625920"/>
            <a:ext cx="1581120" cy="1633320"/>
          </a:xfrm>
          <a:custGeom>
            <a:avLst/>
            <a:gdLst/>
            <a:ahLst/>
            <a:rect l="l" t="t" r="r" b="b"/>
            <a:pathLst>
              <a:path w="4391" h="4540">
                <a:moveTo>
                  <a:pt x="18182" y="10344"/>
                </a:moveTo>
                <a:cubicBezTo>
                  <a:pt x="18341" y="10368"/>
                  <a:pt x="18671" y="10419"/>
                  <a:pt x="18628" y="10666"/>
                </a:cubicBezTo>
                <a:cubicBezTo>
                  <a:pt x="18596" y="10852"/>
                  <a:pt x="18408" y="10788"/>
                  <a:pt x="18306" y="10765"/>
                </a:cubicBezTo>
                <a:cubicBezTo>
                  <a:pt x="18383" y="10612"/>
                  <a:pt x="18507" y="10678"/>
                  <a:pt x="18653" y="10740"/>
                </a:cubicBezTo>
                <a:cubicBezTo>
                  <a:pt x="18670" y="10748"/>
                  <a:pt x="18686" y="10757"/>
                  <a:pt x="18703" y="10765"/>
                </a:cubicBezTo>
              </a:path>
              <a:path w="4391" h="4540">
                <a:moveTo>
                  <a:pt x="18951" y="10368"/>
                </a:moveTo>
                <a:cubicBezTo>
                  <a:pt x="19026" y="10493"/>
                  <a:pt x="19104" y="10595"/>
                  <a:pt x="19124" y="10740"/>
                </a:cubicBezTo>
              </a:path>
              <a:path w="4391" h="4540">
                <a:moveTo>
                  <a:pt x="18901" y="10517"/>
                </a:moveTo>
                <a:cubicBezTo>
                  <a:pt x="18998" y="10539"/>
                  <a:pt x="19136" y="10509"/>
                  <a:pt x="19248" y="10492"/>
                </a:cubicBezTo>
              </a:path>
              <a:path w="4391" h="4540">
                <a:moveTo>
                  <a:pt x="19844" y="10170"/>
                </a:moveTo>
                <a:cubicBezTo>
                  <a:pt x="19797" y="10228"/>
                  <a:pt x="19701" y="10226"/>
                  <a:pt x="19670" y="10294"/>
                </a:cubicBezTo>
                <a:cubicBezTo>
                  <a:pt x="19670" y="10311"/>
                  <a:pt x="19670" y="10327"/>
                  <a:pt x="19670" y="10344"/>
                </a:cubicBezTo>
                <a:cubicBezTo>
                  <a:pt x="19688" y="10470"/>
                  <a:pt x="19832" y="10443"/>
                  <a:pt x="19943" y="10468"/>
                </a:cubicBezTo>
                <a:cubicBezTo>
                  <a:pt x="20137" y="10511"/>
                  <a:pt x="20020" y="10740"/>
                  <a:pt x="19869" y="10740"/>
                </a:cubicBezTo>
                <a:cubicBezTo>
                  <a:pt x="19719" y="10691"/>
                  <a:pt x="19669" y="10674"/>
                  <a:pt x="19596" y="10592"/>
                </a:cubicBezTo>
              </a:path>
              <a:path w="4391" h="4540">
                <a:moveTo>
                  <a:pt x="20265" y="10393"/>
                </a:moveTo>
                <a:cubicBezTo>
                  <a:pt x="20397" y="10393"/>
                  <a:pt x="20530" y="10393"/>
                  <a:pt x="20662" y="10393"/>
                </a:cubicBezTo>
              </a:path>
              <a:path w="4391" h="4540">
                <a:moveTo>
                  <a:pt x="20910" y="10195"/>
                </a:moveTo>
                <a:cubicBezTo>
                  <a:pt x="20980" y="10188"/>
                  <a:pt x="21272" y="10108"/>
                  <a:pt x="21233" y="10269"/>
                </a:cubicBezTo>
                <a:cubicBezTo>
                  <a:pt x="21216" y="10339"/>
                  <a:pt x="21084" y="10383"/>
                  <a:pt x="21034" y="10418"/>
                </a:cubicBezTo>
                <a:cubicBezTo>
                  <a:pt x="21180" y="10381"/>
                  <a:pt x="21191" y="10397"/>
                  <a:pt x="21307" y="10468"/>
                </a:cubicBezTo>
                <a:cubicBezTo>
                  <a:pt x="21154" y="10635"/>
                  <a:pt x="21099" y="10657"/>
                  <a:pt x="20935" y="10517"/>
                </a:cubicBezTo>
              </a:path>
              <a:path w="4391" h="4540">
                <a:moveTo>
                  <a:pt x="22175" y="10071"/>
                </a:moveTo>
                <a:cubicBezTo>
                  <a:pt x="22258" y="10071"/>
                  <a:pt x="22340" y="10071"/>
                  <a:pt x="22423" y="10071"/>
                </a:cubicBezTo>
                <a:cubicBezTo>
                  <a:pt x="22441" y="10277"/>
                  <a:pt x="22323" y="10357"/>
                  <a:pt x="22175" y="10492"/>
                </a:cubicBezTo>
                <a:cubicBezTo>
                  <a:pt x="22167" y="10500"/>
                  <a:pt x="22159" y="10509"/>
                  <a:pt x="22151" y="10517"/>
                </a:cubicBezTo>
                <a:cubicBezTo>
                  <a:pt x="22285" y="10528"/>
                  <a:pt x="22417" y="10546"/>
                  <a:pt x="22547" y="10567"/>
                </a:cubicBezTo>
                <a:cubicBezTo>
                  <a:pt x="22572" y="10567"/>
                  <a:pt x="22580" y="10567"/>
                  <a:pt x="22572" y="10592"/>
                </a:cubicBezTo>
              </a:path>
              <a:path w="4391" h="4540">
                <a:moveTo>
                  <a:pt x="18355" y="11137"/>
                </a:moveTo>
                <a:cubicBezTo>
                  <a:pt x="18372" y="11192"/>
                  <a:pt x="18376" y="11344"/>
                  <a:pt x="18455" y="11336"/>
                </a:cubicBezTo>
                <a:cubicBezTo>
                  <a:pt x="18785" y="11302"/>
                  <a:pt x="19119" y="11297"/>
                  <a:pt x="19447" y="11261"/>
                </a:cubicBezTo>
                <a:cubicBezTo>
                  <a:pt x="19455" y="11253"/>
                  <a:pt x="19464" y="11245"/>
                  <a:pt x="19472" y="11237"/>
                </a:cubicBezTo>
                <a:cubicBezTo>
                  <a:pt x="19455" y="11143"/>
                  <a:pt x="19447" y="11060"/>
                  <a:pt x="19447" y="10964"/>
                </a:cubicBezTo>
              </a:path>
              <a:path w="4391" h="4540">
                <a:moveTo>
                  <a:pt x="18579" y="11633"/>
                </a:moveTo>
                <a:cubicBezTo>
                  <a:pt x="18707" y="11651"/>
                  <a:pt x="18766" y="11686"/>
                  <a:pt x="18876" y="11757"/>
                </a:cubicBezTo>
                <a:cubicBezTo>
                  <a:pt x="18779" y="11990"/>
                  <a:pt x="18685" y="12007"/>
                  <a:pt x="18430" y="12030"/>
                </a:cubicBezTo>
                <a:cubicBezTo>
                  <a:pt x="18488" y="11896"/>
                  <a:pt x="18641" y="11950"/>
                  <a:pt x="18777" y="11956"/>
                </a:cubicBezTo>
                <a:cubicBezTo>
                  <a:pt x="18897" y="11956"/>
                  <a:pt x="18934" y="11958"/>
                  <a:pt x="19000" y="11906"/>
                </a:cubicBezTo>
              </a:path>
              <a:path w="4391" h="4540">
                <a:moveTo>
                  <a:pt x="19000" y="11584"/>
                </a:moveTo>
                <a:cubicBezTo>
                  <a:pt x="19140" y="11552"/>
                  <a:pt x="19309" y="11538"/>
                  <a:pt x="19447" y="11559"/>
                </a:cubicBezTo>
                <a:cubicBezTo>
                  <a:pt x="19433" y="11680"/>
                  <a:pt x="19405" y="11787"/>
                  <a:pt x="19372" y="11906"/>
                </a:cubicBezTo>
              </a:path>
              <a:path w="4391" h="4540">
                <a:moveTo>
                  <a:pt x="19794" y="11658"/>
                </a:moveTo>
                <a:cubicBezTo>
                  <a:pt x="19960" y="11658"/>
                  <a:pt x="20047" y="11652"/>
                  <a:pt x="20191" y="11584"/>
                </a:cubicBezTo>
              </a:path>
              <a:path w="4391" h="4540">
                <a:moveTo>
                  <a:pt x="20389" y="11361"/>
                </a:moveTo>
                <a:cubicBezTo>
                  <a:pt x="20456" y="11361"/>
                  <a:pt x="20717" y="11329"/>
                  <a:pt x="20638" y="11485"/>
                </a:cubicBezTo>
                <a:cubicBezTo>
                  <a:pt x="20575" y="11547"/>
                  <a:pt x="20564" y="11565"/>
                  <a:pt x="20513" y="11584"/>
                </a:cubicBezTo>
                <a:cubicBezTo>
                  <a:pt x="20609" y="11600"/>
                  <a:pt x="20625" y="11625"/>
                  <a:pt x="20712" y="11683"/>
                </a:cubicBezTo>
                <a:cubicBezTo>
                  <a:pt x="20661" y="11837"/>
                  <a:pt x="20588" y="11826"/>
                  <a:pt x="20439" y="11807"/>
                </a:cubicBezTo>
              </a:path>
              <a:path w="4391" h="4540">
                <a:moveTo>
                  <a:pt x="21382" y="11435"/>
                </a:moveTo>
                <a:cubicBezTo>
                  <a:pt x="21351" y="11479"/>
                  <a:pt x="21121" y="11761"/>
                  <a:pt x="21208" y="11782"/>
                </a:cubicBezTo>
                <a:cubicBezTo>
                  <a:pt x="21225" y="11782"/>
                  <a:pt x="21241" y="11782"/>
                  <a:pt x="21258" y="11782"/>
                </a:cubicBezTo>
              </a:path>
              <a:path w="4391" h="4540">
                <a:moveTo>
                  <a:pt x="21828" y="11311"/>
                </a:moveTo>
                <a:cubicBezTo>
                  <a:pt x="21852" y="11275"/>
                  <a:pt x="22028" y="11258"/>
                  <a:pt x="22076" y="11311"/>
                </a:cubicBezTo>
                <a:cubicBezTo>
                  <a:pt x="22196" y="11442"/>
                  <a:pt x="21928" y="11695"/>
                  <a:pt x="21853" y="11782"/>
                </a:cubicBezTo>
                <a:cubicBezTo>
                  <a:pt x="21986" y="11816"/>
                  <a:pt x="22117" y="11815"/>
                  <a:pt x="22250" y="11782"/>
                </a:cubicBezTo>
              </a:path>
              <a:path w="4391" h="4540">
                <a:moveTo>
                  <a:pt x="19273" y="12154"/>
                </a:moveTo>
                <a:cubicBezTo>
                  <a:pt x="19291" y="12233"/>
                  <a:pt x="19298" y="12296"/>
                  <a:pt x="19298" y="12378"/>
                </a:cubicBezTo>
                <a:cubicBezTo>
                  <a:pt x="19602" y="12337"/>
                  <a:pt x="19905" y="12254"/>
                  <a:pt x="20216" y="12254"/>
                </a:cubicBezTo>
                <a:cubicBezTo>
                  <a:pt x="20333" y="12254"/>
                  <a:pt x="20409" y="12282"/>
                  <a:pt x="20513" y="12303"/>
                </a:cubicBezTo>
                <a:cubicBezTo>
                  <a:pt x="20528" y="12209"/>
                  <a:pt x="20568" y="12077"/>
                  <a:pt x="20563" y="11981"/>
                </a:cubicBezTo>
                <a:cubicBezTo>
                  <a:pt x="20555" y="11989"/>
                  <a:pt x="20546" y="11997"/>
                  <a:pt x="20538" y="12005"/>
                </a:cubicBezTo>
              </a:path>
              <a:path w="4391" h="4540">
                <a:moveTo>
                  <a:pt x="20092" y="12700"/>
                </a:moveTo>
                <a:cubicBezTo>
                  <a:pt x="20016" y="12562"/>
                  <a:pt x="19832" y="12515"/>
                  <a:pt x="19720" y="12700"/>
                </a:cubicBezTo>
                <a:cubicBezTo>
                  <a:pt x="19720" y="12741"/>
                  <a:pt x="19720" y="12783"/>
                  <a:pt x="19720" y="12824"/>
                </a:cubicBezTo>
                <a:cubicBezTo>
                  <a:pt x="19934" y="12881"/>
                  <a:pt x="19998" y="12854"/>
                  <a:pt x="20166" y="12700"/>
                </a:cubicBezTo>
                <a:cubicBezTo>
                  <a:pt x="20207" y="12848"/>
                  <a:pt x="20241" y="12968"/>
                  <a:pt x="20241" y="13122"/>
                </a:cubicBezTo>
                <a:cubicBezTo>
                  <a:pt x="20241" y="13114"/>
                  <a:pt x="20241" y="13105"/>
                  <a:pt x="20241" y="13097"/>
                </a:cubicBezTo>
              </a:path>
              <a:path w="4391" h="4540">
                <a:moveTo>
                  <a:pt x="20563" y="12725"/>
                </a:moveTo>
                <a:cubicBezTo>
                  <a:pt x="20630" y="12812"/>
                  <a:pt x="20773" y="13010"/>
                  <a:pt x="20811" y="13022"/>
                </a:cubicBezTo>
              </a:path>
              <a:path w="4391" h="4540">
                <a:moveTo>
                  <a:pt x="20811" y="12650"/>
                </a:moveTo>
                <a:cubicBezTo>
                  <a:pt x="20759" y="12795"/>
                  <a:pt x="20726" y="12946"/>
                  <a:pt x="20638" y="13072"/>
                </a:cubicBezTo>
              </a:path>
              <a:path w="4391" h="4540">
                <a:moveTo>
                  <a:pt x="21109" y="12725"/>
                </a:moveTo>
                <a:cubicBezTo>
                  <a:pt x="21213" y="12696"/>
                  <a:pt x="21275" y="12706"/>
                  <a:pt x="21382" y="12725"/>
                </a:cubicBezTo>
                <a:cubicBezTo>
                  <a:pt x="21381" y="12875"/>
                  <a:pt x="21294" y="12950"/>
                  <a:pt x="21183" y="13072"/>
                </a:cubicBezTo>
                <a:cubicBezTo>
                  <a:pt x="21332" y="13091"/>
                  <a:pt x="21434" y="13075"/>
                  <a:pt x="21580" y="13047"/>
                </a:cubicBezTo>
                <a:cubicBezTo>
                  <a:pt x="21588" y="13047"/>
                  <a:pt x="21597" y="13047"/>
                  <a:pt x="21605" y="13047"/>
                </a:cubicBezTo>
              </a:path>
              <a:path w="4391" h="4540">
                <a:moveTo>
                  <a:pt x="20067" y="13419"/>
                </a:moveTo>
                <a:cubicBezTo>
                  <a:pt x="20099" y="13538"/>
                  <a:pt x="20074" y="13639"/>
                  <a:pt x="20216" y="13618"/>
                </a:cubicBezTo>
                <a:cubicBezTo>
                  <a:pt x="20515" y="13574"/>
                  <a:pt x="20806" y="13508"/>
                  <a:pt x="21109" y="13494"/>
                </a:cubicBezTo>
                <a:cubicBezTo>
                  <a:pt x="21180" y="13491"/>
                  <a:pt x="21123" y="13302"/>
                  <a:pt x="21109" y="13246"/>
                </a:cubicBezTo>
              </a:path>
              <a:path w="4391" h="4540">
                <a:moveTo>
                  <a:pt x="20960" y="13841"/>
                </a:moveTo>
                <a:cubicBezTo>
                  <a:pt x="20852" y="13922"/>
                  <a:pt x="20652" y="13998"/>
                  <a:pt x="20811" y="14114"/>
                </a:cubicBezTo>
                <a:cubicBezTo>
                  <a:pt x="20925" y="14182"/>
                  <a:pt x="20957" y="14202"/>
                  <a:pt x="21034" y="14238"/>
                </a:cubicBezTo>
                <a:cubicBezTo>
                  <a:pt x="21034" y="14263"/>
                  <a:pt x="21034" y="14271"/>
                  <a:pt x="21034" y="14288"/>
                </a:cubicBezTo>
                <a:cubicBezTo>
                  <a:pt x="20858" y="14272"/>
                  <a:pt x="20867" y="14188"/>
                  <a:pt x="20960" y="14039"/>
                </a:cubicBezTo>
                <a:cubicBezTo>
                  <a:pt x="20999" y="14001"/>
                  <a:pt x="21016" y="13999"/>
                  <a:pt x="21010" y="13965"/>
                </a:cubicBezTo>
              </a:path>
              <a:path w="4391" h="4540">
                <a:moveTo>
                  <a:pt x="21456" y="14089"/>
                </a:moveTo>
                <a:cubicBezTo>
                  <a:pt x="21547" y="14236"/>
                  <a:pt x="21717" y="14344"/>
                  <a:pt x="21828" y="14486"/>
                </a:cubicBezTo>
                <a:cubicBezTo>
                  <a:pt x="21844" y="14507"/>
                  <a:pt x="21844" y="14509"/>
                  <a:pt x="21853" y="14536"/>
                </a:cubicBezTo>
              </a:path>
              <a:path w="4391" h="4540">
                <a:moveTo>
                  <a:pt x="21878" y="13965"/>
                </a:moveTo>
                <a:cubicBezTo>
                  <a:pt x="21731" y="14111"/>
                  <a:pt x="21645" y="14330"/>
                  <a:pt x="21530" y="14511"/>
                </a:cubicBezTo>
                <a:cubicBezTo>
                  <a:pt x="21493" y="14567"/>
                  <a:pt x="21476" y="14571"/>
                  <a:pt x="21481" y="14610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473120" y="3687840"/>
            <a:ext cx="5929560" cy="1643040"/>
          </a:xfrm>
          <a:custGeom>
            <a:avLst/>
            <a:gdLst/>
            <a:ahLst/>
            <a:rect l="l" t="t" r="r" b="b"/>
            <a:pathLst>
              <a:path w="16471" h="4565">
                <a:moveTo>
                  <a:pt x="4093" y="14734"/>
                </a:moveTo>
                <a:cubicBezTo>
                  <a:pt x="4118" y="14734"/>
                  <a:pt x="4126" y="14734"/>
                  <a:pt x="4118" y="14759"/>
                </a:cubicBezTo>
              </a:path>
              <a:path w="16471" h="4565">
                <a:moveTo>
                  <a:pt x="4614" y="14808"/>
                </a:moveTo>
                <a:lnTo>
                  <a:pt x="4614" y="14808"/>
                </a:lnTo>
                <a:lnTo>
                  <a:pt x="4614" y="14808"/>
                </a:lnTo>
              </a:path>
              <a:path w="16471" h="4565">
                <a:moveTo>
                  <a:pt x="4837" y="14784"/>
                </a:moveTo>
                <a:lnTo>
                  <a:pt x="4837" y="14784"/>
                </a:lnTo>
              </a:path>
              <a:path w="16471" h="4565">
                <a:moveTo>
                  <a:pt x="17959" y="10344"/>
                </a:moveTo>
                <a:cubicBezTo>
                  <a:pt x="17987" y="10484"/>
                  <a:pt x="18036" y="10642"/>
                  <a:pt x="18033" y="10790"/>
                </a:cubicBezTo>
                <a:cubicBezTo>
                  <a:pt x="18013" y="10850"/>
                  <a:pt x="17994" y="10885"/>
                  <a:pt x="18033" y="10840"/>
                </a:cubicBezTo>
              </a:path>
              <a:path w="16471" h="4565">
                <a:moveTo>
                  <a:pt x="19323" y="10368"/>
                </a:moveTo>
                <a:cubicBezTo>
                  <a:pt x="19376" y="10485"/>
                  <a:pt x="19419" y="10566"/>
                  <a:pt x="19447" y="10691"/>
                </a:cubicBezTo>
              </a:path>
              <a:path w="16471" h="4565">
                <a:moveTo>
                  <a:pt x="20265" y="10244"/>
                </a:moveTo>
                <a:lnTo>
                  <a:pt x="20265" y="10244"/>
                </a:lnTo>
              </a:path>
              <a:path w="16471" h="4565">
                <a:moveTo>
                  <a:pt x="20513" y="10616"/>
                </a:moveTo>
                <a:cubicBezTo>
                  <a:pt x="20530" y="10616"/>
                  <a:pt x="20546" y="10616"/>
                  <a:pt x="20563" y="10616"/>
                </a:cubicBezTo>
              </a:path>
              <a:path w="16471" h="4565">
                <a:moveTo>
                  <a:pt x="11435" y="12774"/>
                </a:moveTo>
                <a:cubicBezTo>
                  <a:pt x="11470" y="13030"/>
                  <a:pt x="11450" y="13263"/>
                  <a:pt x="11410" y="13519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929120" y="2938320"/>
            <a:ext cx="750960" cy="44640"/>
          </a:xfrm>
          <a:custGeom>
            <a:avLst/>
            <a:gdLst/>
            <a:ahLst/>
            <a:rect l="l" t="t" r="r" b="b"/>
            <a:pathLst>
              <a:path w="2085" h="125">
                <a:moveTo>
                  <a:pt x="13692" y="8260"/>
                </a:moveTo>
                <a:cubicBezTo>
                  <a:pt x="13906" y="8206"/>
                  <a:pt x="13988" y="8186"/>
                  <a:pt x="14139" y="8161"/>
                </a:cubicBezTo>
              </a:path>
              <a:path w="2085" h="125">
                <a:moveTo>
                  <a:pt x="14139" y="8161"/>
                </a:moveTo>
                <a:lnTo>
                  <a:pt x="14139" y="8161"/>
                </a:lnTo>
              </a:path>
              <a:path w="2085" h="125">
                <a:moveTo>
                  <a:pt x="15776" y="8260"/>
                </a:moveTo>
                <a:cubicBezTo>
                  <a:pt x="15776" y="8268"/>
                  <a:pt x="15776" y="8277"/>
                  <a:pt x="15776" y="8285"/>
                </a:cubicBezTo>
              </a:path>
              <a:path w="2085" h="125">
                <a:moveTo>
                  <a:pt x="15776" y="8285"/>
                </a:moveTo>
                <a:lnTo>
                  <a:pt x="15776" y="8285"/>
                </a:ln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724200" y="2874960"/>
            <a:ext cx="866880" cy="268200"/>
          </a:xfrm>
          <a:custGeom>
            <a:avLst/>
            <a:gdLst/>
            <a:ahLst/>
            <a:rect l="l" t="t" r="r" b="b"/>
            <a:pathLst>
              <a:path w="2407" h="745">
                <a:moveTo>
                  <a:pt x="10666" y="8334"/>
                </a:moveTo>
                <a:cubicBezTo>
                  <a:pt x="10677" y="8303"/>
                  <a:pt x="10643" y="8227"/>
                  <a:pt x="10542" y="8260"/>
                </a:cubicBezTo>
                <a:cubicBezTo>
                  <a:pt x="10362" y="8318"/>
                  <a:pt x="10367" y="8491"/>
                  <a:pt x="10344" y="8632"/>
                </a:cubicBezTo>
                <a:cubicBezTo>
                  <a:pt x="10576" y="8787"/>
                  <a:pt x="10669" y="8741"/>
                  <a:pt x="10864" y="8533"/>
                </a:cubicBezTo>
                <a:cubicBezTo>
                  <a:pt x="10776" y="8332"/>
                  <a:pt x="10715" y="8328"/>
                  <a:pt x="10492" y="8310"/>
                </a:cubicBezTo>
                <a:cubicBezTo>
                  <a:pt x="10500" y="8310"/>
                  <a:pt x="10509" y="8310"/>
                  <a:pt x="10517" y="8310"/>
                </a:cubicBezTo>
              </a:path>
              <a:path w="2407" h="745">
                <a:moveTo>
                  <a:pt x="10988" y="8533"/>
                </a:moveTo>
                <a:cubicBezTo>
                  <a:pt x="11043" y="8606"/>
                  <a:pt x="11035" y="8639"/>
                  <a:pt x="11088" y="8632"/>
                </a:cubicBezTo>
                <a:cubicBezTo>
                  <a:pt x="11053" y="8402"/>
                  <a:pt x="11032" y="8336"/>
                  <a:pt x="11261" y="8285"/>
                </a:cubicBezTo>
              </a:path>
              <a:path w="2407" h="745">
                <a:moveTo>
                  <a:pt x="11733" y="8409"/>
                </a:moveTo>
                <a:cubicBezTo>
                  <a:pt x="11713" y="8329"/>
                  <a:pt x="11586" y="8268"/>
                  <a:pt x="11509" y="8334"/>
                </a:cubicBezTo>
                <a:cubicBezTo>
                  <a:pt x="11411" y="8482"/>
                  <a:pt x="11378" y="8531"/>
                  <a:pt x="11385" y="8657"/>
                </a:cubicBezTo>
                <a:cubicBezTo>
                  <a:pt x="11675" y="8944"/>
                  <a:pt x="11745" y="8357"/>
                  <a:pt x="11757" y="8210"/>
                </a:cubicBezTo>
              </a:path>
              <a:path w="2407" h="745">
                <a:moveTo>
                  <a:pt x="11609" y="7987"/>
                </a:moveTo>
                <a:cubicBezTo>
                  <a:pt x="11667" y="8207"/>
                  <a:pt x="11764" y="8435"/>
                  <a:pt x="11832" y="8657"/>
                </a:cubicBezTo>
                <a:cubicBezTo>
                  <a:pt x="11832" y="8649"/>
                  <a:pt x="11832" y="8640"/>
                  <a:pt x="11832" y="8632"/>
                </a:cubicBezTo>
              </a:path>
              <a:path w="2407" h="745">
                <a:moveTo>
                  <a:pt x="11981" y="8310"/>
                </a:moveTo>
                <a:cubicBezTo>
                  <a:pt x="12136" y="8288"/>
                  <a:pt x="12330" y="8285"/>
                  <a:pt x="12254" y="8111"/>
                </a:cubicBezTo>
                <a:cubicBezTo>
                  <a:pt x="11971" y="8172"/>
                  <a:pt x="11918" y="8256"/>
                  <a:pt x="12005" y="8533"/>
                </a:cubicBezTo>
                <a:cubicBezTo>
                  <a:pt x="12301" y="8522"/>
                  <a:pt x="12264" y="8510"/>
                  <a:pt x="12452" y="8260"/>
                </a:cubicBezTo>
              </a:path>
              <a:path w="2407" h="745">
                <a:moveTo>
                  <a:pt x="12526" y="8359"/>
                </a:moveTo>
                <a:cubicBezTo>
                  <a:pt x="12545" y="8433"/>
                  <a:pt x="12553" y="8440"/>
                  <a:pt x="12551" y="8483"/>
                </a:cubicBezTo>
                <a:cubicBezTo>
                  <a:pt x="12521" y="8366"/>
                  <a:pt x="12486" y="8094"/>
                  <a:pt x="12650" y="8037"/>
                </a:cubicBezTo>
                <a:cubicBezTo>
                  <a:pt x="12683" y="8045"/>
                  <a:pt x="12717" y="8054"/>
                  <a:pt x="12750" y="8062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776840" y="2830680"/>
            <a:ext cx="216000" cy="241200"/>
          </a:xfrm>
          <a:custGeom>
            <a:avLst/>
            <a:gdLst/>
            <a:ahLst/>
            <a:rect l="l" t="t" r="r" b="b"/>
            <a:pathLst>
              <a:path w="596" h="671">
                <a:moveTo>
                  <a:pt x="13444" y="8186"/>
                </a:moveTo>
                <a:cubicBezTo>
                  <a:pt x="13263" y="8246"/>
                  <a:pt x="13275" y="8348"/>
                  <a:pt x="13295" y="8533"/>
                </a:cubicBezTo>
                <a:cubicBezTo>
                  <a:pt x="13352" y="8511"/>
                  <a:pt x="13775" y="8306"/>
                  <a:pt x="13543" y="8210"/>
                </a:cubicBezTo>
                <a:cubicBezTo>
                  <a:pt x="13436" y="8210"/>
                  <a:pt x="13387" y="8251"/>
                  <a:pt x="13395" y="8186"/>
                </a:cubicBezTo>
              </a:path>
              <a:path w="596" h="671">
                <a:moveTo>
                  <a:pt x="13816" y="7863"/>
                </a:moveTo>
                <a:cubicBezTo>
                  <a:pt x="13613" y="8067"/>
                  <a:pt x="13729" y="8146"/>
                  <a:pt x="13841" y="8409"/>
                </a:cubicBezTo>
                <a:cubicBezTo>
                  <a:pt x="13863" y="8474"/>
                  <a:pt x="13881" y="8499"/>
                  <a:pt x="13816" y="8483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197320" y="2884320"/>
            <a:ext cx="357480" cy="223920"/>
          </a:xfrm>
          <a:custGeom>
            <a:avLst/>
            <a:gdLst/>
            <a:ahLst/>
            <a:rect l="l" t="t" r="r" b="b"/>
            <a:pathLst>
              <a:path w="994" h="621">
                <a:moveTo>
                  <a:pt x="14635" y="8186"/>
                </a:moveTo>
                <a:cubicBezTo>
                  <a:pt x="14513" y="8125"/>
                  <a:pt x="14422" y="8249"/>
                  <a:pt x="14436" y="8384"/>
                </a:cubicBezTo>
                <a:cubicBezTo>
                  <a:pt x="14453" y="8417"/>
                  <a:pt x="14469" y="8450"/>
                  <a:pt x="14486" y="8483"/>
                </a:cubicBezTo>
                <a:cubicBezTo>
                  <a:pt x="14530" y="8478"/>
                  <a:pt x="15138" y="8345"/>
                  <a:pt x="14833" y="8235"/>
                </a:cubicBezTo>
                <a:cubicBezTo>
                  <a:pt x="14783" y="8235"/>
                  <a:pt x="14734" y="8235"/>
                  <a:pt x="14684" y="8235"/>
                </a:cubicBezTo>
              </a:path>
              <a:path w="994" h="621">
                <a:moveTo>
                  <a:pt x="15106" y="8359"/>
                </a:moveTo>
                <a:cubicBezTo>
                  <a:pt x="15151" y="8515"/>
                  <a:pt x="15156" y="8557"/>
                  <a:pt x="15230" y="8632"/>
                </a:cubicBezTo>
                <a:cubicBezTo>
                  <a:pt x="15133" y="8395"/>
                  <a:pt x="15088" y="8284"/>
                  <a:pt x="15156" y="8037"/>
                </a:cubicBezTo>
                <a:cubicBezTo>
                  <a:pt x="15316" y="8045"/>
                  <a:pt x="15578" y="8152"/>
                  <a:pt x="15354" y="8359"/>
                </a:cubicBezTo>
                <a:cubicBezTo>
                  <a:pt x="15212" y="8490"/>
                  <a:pt x="15120" y="8477"/>
                  <a:pt x="14982" y="8409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95840" y="3679920"/>
            <a:ext cx="1419120" cy="588960"/>
          </a:xfrm>
          <a:custGeom>
            <a:avLst/>
            <a:gdLst/>
            <a:ahLst/>
            <a:rect l="l" t="t" r="r" b="b"/>
            <a:pathLst>
              <a:path w="3945" h="1638">
                <a:moveTo>
                  <a:pt x="12303" y="10294"/>
                </a:moveTo>
                <a:cubicBezTo>
                  <a:pt x="12305" y="10304"/>
                  <a:pt x="12328" y="10413"/>
                  <a:pt x="12328" y="10468"/>
                </a:cubicBezTo>
                <a:cubicBezTo>
                  <a:pt x="12477" y="10453"/>
                  <a:pt x="12624" y="10412"/>
                  <a:pt x="12774" y="10393"/>
                </a:cubicBezTo>
                <a:cubicBezTo>
                  <a:pt x="13009" y="10363"/>
                  <a:pt x="13235" y="10355"/>
                  <a:pt x="13469" y="10393"/>
                </a:cubicBezTo>
                <a:cubicBezTo>
                  <a:pt x="13612" y="10416"/>
                  <a:pt x="13744" y="10464"/>
                  <a:pt x="13891" y="10443"/>
                </a:cubicBezTo>
                <a:cubicBezTo>
                  <a:pt x="14010" y="10426"/>
                  <a:pt x="14117" y="10418"/>
                  <a:pt x="14238" y="10418"/>
                </a:cubicBezTo>
                <a:cubicBezTo>
                  <a:pt x="14321" y="10418"/>
                  <a:pt x="14403" y="10418"/>
                  <a:pt x="14486" y="10418"/>
                </a:cubicBezTo>
                <a:cubicBezTo>
                  <a:pt x="14465" y="10365"/>
                  <a:pt x="14448" y="10307"/>
                  <a:pt x="14436" y="10244"/>
                </a:cubicBezTo>
                <a:cubicBezTo>
                  <a:pt x="14436" y="10236"/>
                  <a:pt x="14436" y="10228"/>
                  <a:pt x="14436" y="10220"/>
                </a:cubicBezTo>
              </a:path>
              <a:path w="3945" h="1638">
                <a:moveTo>
                  <a:pt x="13345" y="10939"/>
                </a:moveTo>
                <a:cubicBezTo>
                  <a:pt x="13230" y="10977"/>
                  <a:pt x="13085" y="11000"/>
                  <a:pt x="12973" y="11038"/>
                </a:cubicBezTo>
                <a:cubicBezTo>
                  <a:pt x="12933" y="11051"/>
                  <a:pt x="12912" y="11283"/>
                  <a:pt x="12898" y="11336"/>
                </a:cubicBezTo>
                <a:cubicBezTo>
                  <a:pt x="13031" y="11336"/>
                  <a:pt x="13095" y="11260"/>
                  <a:pt x="13246" y="11286"/>
                </a:cubicBezTo>
                <a:cubicBezTo>
                  <a:pt x="13578" y="11344"/>
                  <a:pt x="13256" y="11669"/>
                  <a:pt x="13122" y="11733"/>
                </a:cubicBezTo>
                <a:cubicBezTo>
                  <a:pt x="12940" y="11778"/>
                  <a:pt x="12892" y="11797"/>
                  <a:pt x="12774" y="11757"/>
                </a:cubicBezTo>
              </a:path>
              <a:path w="3945" h="1638">
                <a:moveTo>
                  <a:pt x="10592" y="11112"/>
                </a:moveTo>
                <a:cubicBezTo>
                  <a:pt x="10592" y="11363"/>
                  <a:pt x="10517" y="12106"/>
                  <a:pt x="10542" y="11857"/>
                </a:cubicBezTo>
                <a:cubicBezTo>
                  <a:pt x="10550" y="11816"/>
                  <a:pt x="10559" y="11774"/>
                  <a:pt x="10567" y="11733"/>
                </a:cubicBezTo>
              </a:path>
              <a:path w="3945" h="1638">
                <a:moveTo>
                  <a:pt x="10864" y="11137"/>
                </a:moveTo>
                <a:cubicBezTo>
                  <a:pt x="11092" y="11146"/>
                  <a:pt x="11404" y="11235"/>
                  <a:pt x="11286" y="11559"/>
                </a:cubicBezTo>
                <a:cubicBezTo>
                  <a:pt x="11191" y="11821"/>
                  <a:pt x="10947" y="11884"/>
                  <a:pt x="10765" y="11733"/>
                </a:cubicBezTo>
                <a:cubicBezTo>
                  <a:pt x="10957" y="11572"/>
                  <a:pt x="11123" y="11484"/>
                  <a:pt x="11361" y="11658"/>
                </a:cubicBezTo>
                <a:cubicBezTo>
                  <a:pt x="11425" y="11744"/>
                  <a:pt x="11450" y="11761"/>
                  <a:pt x="11435" y="11832"/>
                </a:cubicBezTo>
              </a:path>
              <a:path w="3945" h="1638">
                <a:moveTo>
                  <a:pt x="11906" y="11311"/>
                </a:moveTo>
                <a:cubicBezTo>
                  <a:pt x="11927" y="11452"/>
                  <a:pt x="11958" y="11594"/>
                  <a:pt x="11981" y="11733"/>
                </a:cubicBezTo>
              </a:path>
              <a:path w="3945" h="1638">
                <a:moveTo>
                  <a:pt x="11733" y="11509"/>
                </a:moveTo>
                <a:cubicBezTo>
                  <a:pt x="11895" y="11502"/>
                  <a:pt x="12099" y="11507"/>
                  <a:pt x="12254" y="11460"/>
                </a:cubicBezTo>
                <a:cubicBezTo>
                  <a:pt x="12262" y="11452"/>
                  <a:pt x="12270" y="11443"/>
                  <a:pt x="12278" y="11435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919680" y="3143160"/>
            <a:ext cx="1876320" cy="115920"/>
          </a:xfrm>
          <a:custGeom>
            <a:avLst/>
            <a:gdLst/>
            <a:ahLst/>
            <a:rect l="l" t="t" r="r" b="b"/>
            <a:pathLst>
              <a:path w="5210" h="324">
                <a:moveTo>
                  <a:pt x="10889" y="9054"/>
                </a:moveTo>
                <a:cubicBezTo>
                  <a:pt x="11128" y="9003"/>
                  <a:pt x="11361" y="8963"/>
                  <a:pt x="11609" y="8954"/>
                </a:cubicBezTo>
                <a:cubicBezTo>
                  <a:pt x="12021" y="8940"/>
                  <a:pt x="12439" y="8986"/>
                  <a:pt x="12849" y="8930"/>
                </a:cubicBezTo>
                <a:cubicBezTo>
                  <a:pt x="13174" y="8886"/>
                  <a:pt x="13487" y="8874"/>
                  <a:pt x="13816" y="8855"/>
                </a:cubicBezTo>
                <a:cubicBezTo>
                  <a:pt x="14155" y="8835"/>
                  <a:pt x="14495" y="8819"/>
                  <a:pt x="14833" y="8806"/>
                </a:cubicBezTo>
                <a:cubicBezTo>
                  <a:pt x="15149" y="8794"/>
                  <a:pt x="15462" y="8752"/>
                  <a:pt x="15776" y="8731"/>
                </a:cubicBezTo>
                <a:cubicBezTo>
                  <a:pt x="15882" y="8724"/>
                  <a:pt x="15991" y="8731"/>
                  <a:pt x="16098" y="8731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28600" y="838080"/>
            <a:ext cx="86104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eptember 7, 2011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rder of Operations Day 2</a:t>
            </a:r>
            <a:r>
              <a:rPr b="0" lang="en-US" sz="4400" spc="-1" strike="noStrike">
                <a:solidFill>
                  <a:srgbClr val="f6fcac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914040" y="3200040"/>
            <a:ext cx="76201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Objectiv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Students will identify and apply the Order of Operations to evaluate 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017880" y="53672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8384" y="14908"/>
                </a:moveTo>
                <a:lnTo>
                  <a:pt x="8384" y="14908"/>
                </a:ln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955960" y="4902120"/>
            <a:ext cx="3990960" cy="142920"/>
          </a:xfrm>
          <a:custGeom>
            <a:avLst/>
            <a:gdLst/>
            <a:ahLst/>
            <a:rect l="l" t="t" r="r" b="b"/>
            <a:pathLst>
              <a:path w="11089" h="398">
                <a:moveTo>
                  <a:pt x="8210" y="13866"/>
                </a:moveTo>
                <a:cubicBezTo>
                  <a:pt x="8393" y="13935"/>
                  <a:pt x="8312" y="14019"/>
                  <a:pt x="8558" y="13990"/>
                </a:cubicBezTo>
                <a:cubicBezTo>
                  <a:pt x="8698" y="13974"/>
                  <a:pt x="8809" y="13787"/>
                  <a:pt x="8954" y="13816"/>
                </a:cubicBezTo>
                <a:cubicBezTo>
                  <a:pt x="9209" y="13868"/>
                  <a:pt x="9075" y="13994"/>
                  <a:pt x="9376" y="13866"/>
                </a:cubicBezTo>
                <a:cubicBezTo>
                  <a:pt x="9666" y="13742"/>
                  <a:pt x="9599" y="13755"/>
                  <a:pt x="9847" y="13791"/>
                </a:cubicBezTo>
                <a:cubicBezTo>
                  <a:pt x="10053" y="13821"/>
                  <a:pt x="10051" y="13744"/>
                  <a:pt x="10244" y="13692"/>
                </a:cubicBezTo>
                <a:cubicBezTo>
                  <a:pt x="10466" y="13633"/>
                  <a:pt x="10588" y="13724"/>
                  <a:pt x="10790" y="13717"/>
                </a:cubicBezTo>
                <a:cubicBezTo>
                  <a:pt x="10928" y="13712"/>
                  <a:pt x="11029" y="13593"/>
                  <a:pt x="11162" y="13618"/>
                </a:cubicBezTo>
                <a:cubicBezTo>
                  <a:pt x="11293" y="13642"/>
                  <a:pt x="11379" y="13764"/>
                  <a:pt x="11509" y="13791"/>
                </a:cubicBezTo>
                <a:cubicBezTo>
                  <a:pt x="11628" y="13816"/>
                  <a:pt x="11735" y="13806"/>
                  <a:pt x="11857" y="13841"/>
                </a:cubicBezTo>
                <a:cubicBezTo>
                  <a:pt x="12179" y="13934"/>
                  <a:pt x="12354" y="13940"/>
                  <a:pt x="12675" y="13940"/>
                </a:cubicBezTo>
                <a:cubicBezTo>
                  <a:pt x="12830" y="13940"/>
                  <a:pt x="13001" y="14021"/>
                  <a:pt x="13146" y="14015"/>
                </a:cubicBezTo>
                <a:cubicBezTo>
                  <a:pt x="13252" y="14010"/>
                  <a:pt x="13334" y="13962"/>
                  <a:pt x="13444" y="13965"/>
                </a:cubicBezTo>
                <a:cubicBezTo>
                  <a:pt x="13625" y="13971"/>
                  <a:pt x="13787" y="13938"/>
                  <a:pt x="13965" y="13940"/>
                </a:cubicBezTo>
                <a:cubicBezTo>
                  <a:pt x="14216" y="13943"/>
                  <a:pt x="14340" y="13903"/>
                  <a:pt x="14585" y="13841"/>
                </a:cubicBezTo>
                <a:cubicBezTo>
                  <a:pt x="14782" y="13791"/>
                  <a:pt x="15144" y="13816"/>
                  <a:pt x="15354" y="13816"/>
                </a:cubicBezTo>
                <a:cubicBezTo>
                  <a:pt x="15610" y="13816"/>
                  <a:pt x="15819" y="13781"/>
                  <a:pt x="16073" y="13742"/>
                </a:cubicBezTo>
                <a:cubicBezTo>
                  <a:pt x="16318" y="13705"/>
                  <a:pt x="16574" y="13674"/>
                  <a:pt x="16818" y="13742"/>
                </a:cubicBezTo>
                <a:cubicBezTo>
                  <a:pt x="17105" y="13822"/>
                  <a:pt x="17312" y="13850"/>
                  <a:pt x="17611" y="13841"/>
                </a:cubicBezTo>
                <a:cubicBezTo>
                  <a:pt x="17812" y="13835"/>
                  <a:pt x="17983" y="13944"/>
                  <a:pt x="18182" y="13940"/>
                </a:cubicBezTo>
                <a:cubicBezTo>
                  <a:pt x="18419" y="13936"/>
                  <a:pt x="18691" y="13935"/>
                  <a:pt x="18926" y="13915"/>
                </a:cubicBezTo>
                <a:cubicBezTo>
                  <a:pt x="19043" y="13905"/>
                  <a:pt x="19159" y="13860"/>
                  <a:pt x="19273" y="13841"/>
                </a:cubicBezTo>
                <a:cubicBezTo>
                  <a:pt x="19281" y="13841"/>
                  <a:pt x="19290" y="13841"/>
                  <a:pt x="19298" y="13841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305920" cy="29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"/>
              </a:rPr>
              <a:t>Objective: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udents will identify and apply the Order of Operations to evaluate expressions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:  What is the order in which we perform opera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350532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enthesis   (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onents      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y and Divide (left to right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and Subtract (left to rig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70800" y="4429080"/>
            <a:ext cx="1428480" cy="669960"/>
          </a:xfrm>
          <a:custGeom>
            <a:avLst/>
            <a:gdLst/>
            <a:ahLst/>
            <a:rect l="l" t="t" r="r" b="b"/>
            <a:pathLst>
              <a:path w="3970" h="1861">
                <a:moveTo>
                  <a:pt x="18802" y="13395"/>
                </a:moveTo>
                <a:cubicBezTo>
                  <a:pt x="18842" y="13355"/>
                  <a:pt x="18823" y="13334"/>
                  <a:pt x="18802" y="13271"/>
                </a:cubicBezTo>
                <a:cubicBezTo>
                  <a:pt x="18695" y="13262"/>
                  <a:pt x="18434" y="13414"/>
                  <a:pt x="18529" y="13568"/>
                </a:cubicBezTo>
                <a:cubicBezTo>
                  <a:pt x="18590" y="13667"/>
                  <a:pt x="18808" y="13436"/>
                  <a:pt x="18827" y="13419"/>
                </a:cubicBezTo>
                <a:cubicBezTo>
                  <a:pt x="18835" y="13411"/>
                  <a:pt x="18844" y="13403"/>
                  <a:pt x="18852" y="13395"/>
                </a:cubicBezTo>
                <a:cubicBezTo>
                  <a:pt x="18852" y="13634"/>
                  <a:pt x="18787" y="13832"/>
                  <a:pt x="18752" y="14064"/>
                </a:cubicBezTo>
                <a:cubicBezTo>
                  <a:pt x="18752" y="14153"/>
                  <a:pt x="18745" y="14193"/>
                  <a:pt x="18802" y="14114"/>
                </a:cubicBezTo>
              </a:path>
              <a:path w="3970" h="1861">
                <a:moveTo>
                  <a:pt x="19397" y="13494"/>
                </a:moveTo>
                <a:cubicBezTo>
                  <a:pt x="19397" y="13397"/>
                  <a:pt x="19302" y="13335"/>
                  <a:pt x="19199" y="13419"/>
                </a:cubicBezTo>
                <a:cubicBezTo>
                  <a:pt x="19062" y="13531"/>
                  <a:pt x="19108" y="13626"/>
                  <a:pt x="19174" y="13717"/>
                </a:cubicBezTo>
                <a:cubicBezTo>
                  <a:pt x="19298" y="13651"/>
                  <a:pt x="19358" y="13589"/>
                  <a:pt x="19447" y="13469"/>
                </a:cubicBezTo>
                <a:cubicBezTo>
                  <a:pt x="19434" y="13669"/>
                  <a:pt x="19398" y="13865"/>
                  <a:pt x="19372" y="14064"/>
                </a:cubicBezTo>
                <a:cubicBezTo>
                  <a:pt x="19372" y="14111"/>
                  <a:pt x="19390" y="14107"/>
                  <a:pt x="19447" y="14039"/>
                </a:cubicBezTo>
              </a:path>
              <a:path w="3970" h="1861">
                <a:moveTo>
                  <a:pt x="19819" y="13667"/>
                </a:moveTo>
                <a:cubicBezTo>
                  <a:pt x="19948" y="13693"/>
                  <a:pt x="20100" y="13648"/>
                  <a:pt x="20241" y="13643"/>
                </a:cubicBezTo>
                <a:cubicBezTo>
                  <a:pt x="20274" y="13643"/>
                  <a:pt x="20290" y="13643"/>
                  <a:pt x="20315" y="13643"/>
                </a:cubicBezTo>
              </a:path>
              <a:path w="3970" h="1861">
                <a:moveTo>
                  <a:pt x="20588" y="13444"/>
                </a:moveTo>
                <a:cubicBezTo>
                  <a:pt x="20588" y="13601"/>
                  <a:pt x="20612" y="13738"/>
                  <a:pt x="20638" y="13891"/>
                </a:cubicBezTo>
                <a:cubicBezTo>
                  <a:pt x="20639" y="13899"/>
                  <a:pt x="20638" y="13982"/>
                  <a:pt x="20638" y="13915"/>
                </a:cubicBezTo>
              </a:path>
              <a:path w="3970" h="1861">
                <a:moveTo>
                  <a:pt x="20935" y="13395"/>
                </a:moveTo>
                <a:cubicBezTo>
                  <a:pt x="20925" y="13584"/>
                  <a:pt x="20911" y="13753"/>
                  <a:pt x="20935" y="13940"/>
                </a:cubicBezTo>
                <a:cubicBezTo>
                  <a:pt x="20935" y="13965"/>
                  <a:pt x="20935" y="13973"/>
                  <a:pt x="20935" y="13990"/>
                </a:cubicBezTo>
              </a:path>
              <a:path w="3970" h="1861">
                <a:moveTo>
                  <a:pt x="21332" y="13494"/>
                </a:moveTo>
                <a:cubicBezTo>
                  <a:pt x="21434" y="13545"/>
                  <a:pt x="21557" y="13669"/>
                  <a:pt x="21630" y="13767"/>
                </a:cubicBezTo>
                <a:cubicBezTo>
                  <a:pt x="21630" y="13791"/>
                  <a:pt x="21630" y="13799"/>
                  <a:pt x="21654" y="13791"/>
                </a:cubicBezTo>
              </a:path>
              <a:path w="3970" h="1861">
                <a:moveTo>
                  <a:pt x="21654" y="13419"/>
                </a:moveTo>
                <a:cubicBezTo>
                  <a:pt x="21560" y="13558"/>
                  <a:pt x="21434" y="13708"/>
                  <a:pt x="21382" y="13866"/>
                </a:cubicBezTo>
              </a:path>
              <a:path w="3970" h="1861">
                <a:moveTo>
                  <a:pt x="22002" y="13419"/>
                </a:moveTo>
                <a:cubicBezTo>
                  <a:pt x="22085" y="13399"/>
                  <a:pt x="22158" y="13322"/>
                  <a:pt x="22250" y="13295"/>
                </a:cubicBezTo>
                <a:cubicBezTo>
                  <a:pt x="22266" y="13295"/>
                  <a:pt x="22283" y="13295"/>
                  <a:pt x="22299" y="13295"/>
                </a:cubicBezTo>
                <a:cubicBezTo>
                  <a:pt x="22352" y="13518"/>
                  <a:pt x="22226" y="13676"/>
                  <a:pt x="22076" y="13866"/>
                </a:cubicBezTo>
                <a:cubicBezTo>
                  <a:pt x="22021" y="13921"/>
                  <a:pt x="21996" y="13919"/>
                  <a:pt x="22002" y="13965"/>
                </a:cubicBezTo>
                <a:cubicBezTo>
                  <a:pt x="22109" y="13947"/>
                  <a:pt x="22183" y="13901"/>
                  <a:pt x="22299" y="13915"/>
                </a:cubicBezTo>
                <a:cubicBezTo>
                  <a:pt x="22392" y="13926"/>
                  <a:pt x="22414" y="13990"/>
                  <a:pt x="22498" y="13940"/>
                </a:cubicBezTo>
              </a:path>
              <a:path w="3970" h="1861">
                <a:moveTo>
                  <a:pt x="19596" y="12328"/>
                </a:moveTo>
                <a:cubicBezTo>
                  <a:pt x="19596" y="12274"/>
                  <a:pt x="19552" y="12606"/>
                  <a:pt x="19546" y="12626"/>
                </a:cubicBezTo>
                <a:cubicBezTo>
                  <a:pt x="19510" y="12716"/>
                  <a:pt x="19493" y="12721"/>
                  <a:pt x="19496" y="12774"/>
                </a:cubicBezTo>
                <a:cubicBezTo>
                  <a:pt x="19637" y="12774"/>
                  <a:pt x="19777" y="12774"/>
                  <a:pt x="19918" y="12774"/>
                </a:cubicBezTo>
              </a:path>
              <a:path w="3970" h="1861">
                <a:moveTo>
                  <a:pt x="20389" y="12626"/>
                </a:moveTo>
                <a:cubicBezTo>
                  <a:pt x="20528" y="12566"/>
                  <a:pt x="20734" y="12610"/>
                  <a:pt x="20886" y="12626"/>
                </a:cubicBezTo>
                <a:cubicBezTo>
                  <a:pt x="21006" y="12639"/>
                  <a:pt x="21093" y="12650"/>
                  <a:pt x="21208" y="12650"/>
                </a:cubicBezTo>
              </a:path>
              <a:path w="3970" h="1861">
                <a:moveTo>
                  <a:pt x="20886" y="12353"/>
                </a:moveTo>
                <a:cubicBezTo>
                  <a:pt x="21013" y="12439"/>
                  <a:pt x="21186" y="12481"/>
                  <a:pt x="21307" y="12576"/>
                </a:cubicBezTo>
                <a:cubicBezTo>
                  <a:pt x="21398" y="12647"/>
                  <a:pt x="21141" y="12842"/>
                  <a:pt x="21109" y="12874"/>
                </a:cubicBezTo>
                <a:cubicBezTo>
                  <a:pt x="21050" y="12933"/>
                  <a:pt x="21034" y="12985"/>
                  <a:pt x="21034" y="12948"/>
                </a:cubicBezTo>
              </a:path>
              <a:path w="3970" h="1861">
                <a:moveTo>
                  <a:pt x="21580" y="12502"/>
                </a:moveTo>
                <a:cubicBezTo>
                  <a:pt x="21604" y="12597"/>
                  <a:pt x="21647" y="12705"/>
                  <a:pt x="21679" y="12799"/>
                </a:cubicBezTo>
                <a:cubicBezTo>
                  <a:pt x="21679" y="12947"/>
                  <a:pt x="21651" y="12797"/>
                  <a:pt x="21654" y="12725"/>
                </a:cubicBezTo>
                <a:cubicBezTo>
                  <a:pt x="21662" y="12492"/>
                  <a:pt x="21761" y="12362"/>
                  <a:pt x="21977" y="12303"/>
                </a:cubicBezTo>
                <a:cubicBezTo>
                  <a:pt x="21901" y="12443"/>
                  <a:pt x="21816" y="12538"/>
                  <a:pt x="21704" y="12650"/>
                </a:cubicBezTo>
                <a:cubicBezTo>
                  <a:pt x="21696" y="12658"/>
                  <a:pt x="21687" y="12667"/>
                  <a:pt x="21679" y="12675"/>
                </a:cubicBezTo>
                <a:cubicBezTo>
                  <a:pt x="21814" y="12752"/>
                  <a:pt x="21960" y="12799"/>
                  <a:pt x="22101" y="12849"/>
                </a:cubicBezTo>
                <a:cubicBezTo>
                  <a:pt x="22109" y="12849"/>
                  <a:pt x="22118" y="12849"/>
                  <a:pt x="22126" y="12849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232760" y="4803840"/>
            <a:ext cx="19080" cy="206280"/>
          </a:xfrm>
          <a:custGeom>
            <a:avLst/>
            <a:gdLst/>
            <a:ahLst/>
            <a:rect l="l" t="t" r="r" b="b"/>
            <a:pathLst>
              <a:path w="50" h="571">
                <a:moveTo>
                  <a:pt x="20092" y="13345"/>
                </a:moveTo>
                <a:lnTo>
                  <a:pt x="20092" y="13345"/>
                </a:lnTo>
              </a:path>
              <a:path w="50" h="571">
                <a:moveTo>
                  <a:pt x="20141" y="13915"/>
                </a:moveTo>
                <a:lnTo>
                  <a:pt x="20141" y="13915"/>
                </a:lnTo>
                <a:lnTo>
                  <a:pt x="20141" y="13915"/>
                </a:lnTo>
              </a:path>
              <a:path w="50" h="571">
                <a:moveTo>
                  <a:pt x="20141" y="13915"/>
                </a:moveTo>
                <a:lnTo>
                  <a:pt x="20141" y="13915"/>
                </a:ln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560" y="277560"/>
            <a:ext cx="8381880" cy="26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"/>
              </a:rPr>
              <a:t>Objective: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udents will identify and apply the Order of Operations to evaluate expressions</a:t>
            </a:r>
            <a:br>
              <a:rPr sz="2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esterday PEMDAS; today Aunt Sally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0066ff"/>
                </a:solidFill>
                <a:uFillTx/>
                <a:latin typeface="Arial"/>
                <a:hlinkClick r:id="rId2"/>
              </a:rPr>
              <a:t>www.brainpop.org</a:t>
            </a:r>
            <a:r>
              <a:rPr b="0" lang="en-US" sz="3200" spc="-1" strike="noStrike" u="sng">
                <a:solidFill>
                  <a:srgbClr val="0066ff"/>
                </a:solidFill>
                <a:uFillTx/>
                <a:latin typeface="Arial"/>
                <a:hlinkClick r:id="rId3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4"/>
          <a:stretch/>
        </p:blipFill>
        <p:spPr>
          <a:xfrm>
            <a:off x="5943600" y="3048120"/>
            <a:ext cx="2459160" cy="31525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3321000" y="2170080"/>
            <a:ext cx="2046240" cy="88920"/>
          </a:xfrm>
          <a:custGeom>
            <a:avLst/>
            <a:gdLst/>
            <a:ahLst/>
            <a:rect l="l" t="t" r="r" b="b"/>
            <a:pathLst>
              <a:path w="5682" h="249">
                <a:moveTo>
                  <a:pt x="9227" y="6152"/>
                </a:moveTo>
                <a:cubicBezTo>
                  <a:pt x="9317" y="6241"/>
                  <a:pt x="9346" y="6291"/>
                  <a:pt x="9500" y="6276"/>
                </a:cubicBezTo>
                <a:cubicBezTo>
                  <a:pt x="9564" y="6270"/>
                  <a:pt x="9740" y="6152"/>
                  <a:pt x="9748" y="6152"/>
                </a:cubicBezTo>
                <a:cubicBezTo>
                  <a:pt x="9820" y="6155"/>
                  <a:pt x="9863" y="6253"/>
                  <a:pt x="9947" y="6251"/>
                </a:cubicBezTo>
                <a:cubicBezTo>
                  <a:pt x="10085" y="6248"/>
                  <a:pt x="10215" y="6126"/>
                  <a:pt x="10319" y="6052"/>
                </a:cubicBezTo>
                <a:cubicBezTo>
                  <a:pt x="10507" y="6230"/>
                  <a:pt x="10622" y="6255"/>
                  <a:pt x="10889" y="6152"/>
                </a:cubicBezTo>
                <a:cubicBezTo>
                  <a:pt x="10956" y="6126"/>
                  <a:pt x="11028" y="6079"/>
                  <a:pt x="11088" y="6052"/>
                </a:cubicBezTo>
                <a:cubicBezTo>
                  <a:pt x="11173" y="6154"/>
                  <a:pt x="11059" y="6144"/>
                  <a:pt x="11261" y="6176"/>
                </a:cubicBezTo>
                <a:cubicBezTo>
                  <a:pt x="11400" y="6198"/>
                  <a:pt x="11533" y="6118"/>
                  <a:pt x="11658" y="6127"/>
                </a:cubicBezTo>
                <a:cubicBezTo>
                  <a:pt x="11788" y="6136"/>
                  <a:pt x="11868" y="6265"/>
                  <a:pt x="12005" y="6251"/>
                </a:cubicBezTo>
                <a:cubicBezTo>
                  <a:pt x="12141" y="6237"/>
                  <a:pt x="12312" y="6097"/>
                  <a:pt x="12452" y="6127"/>
                </a:cubicBezTo>
                <a:cubicBezTo>
                  <a:pt x="12520" y="6141"/>
                  <a:pt x="12569" y="6227"/>
                  <a:pt x="12650" y="6226"/>
                </a:cubicBezTo>
                <a:cubicBezTo>
                  <a:pt x="12787" y="6224"/>
                  <a:pt x="12918" y="6093"/>
                  <a:pt x="13047" y="6102"/>
                </a:cubicBezTo>
                <a:cubicBezTo>
                  <a:pt x="13220" y="6115"/>
                  <a:pt x="13223" y="6224"/>
                  <a:pt x="13444" y="6176"/>
                </a:cubicBezTo>
                <a:cubicBezTo>
                  <a:pt x="13590" y="6144"/>
                  <a:pt x="13693" y="6084"/>
                  <a:pt x="13841" y="6077"/>
                </a:cubicBezTo>
                <a:cubicBezTo>
                  <a:pt x="13972" y="6070"/>
                  <a:pt x="14119" y="6112"/>
                  <a:pt x="14238" y="6102"/>
                </a:cubicBezTo>
                <a:cubicBezTo>
                  <a:pt x="14323" y="6095"/>
                  <a:pt x="14408" y="6019"/>
                  <a:pt x="14486" y="6028"/>
                </a:cubicBezTo>
                <a:cubicBezTo>
                  <a:pt x="14652" y="6048"/>
                  <a:pt x="14687" y="6067"/>
                  <a:pt x="14883" y="6028"/>
                </a:cubicBezTo>
                <a:cubicBezTo>
                  <a:pt x="14891" y="6028"/>
                  <a:pt x="14900" y="6028"/>
                  <a:pt x="14908" y="6028"/>
                </a:cubicBezTo>
              </a:path>
            </a:pathLst>
          </a:custGeom>
          <a:noFill/>
          <a:ln cap="rnd" w="349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304920" y="236196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(parenthes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use (expone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(multiplication) Dear (divis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nt (addition) Sally (subtrac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5867280" y="2590920"/>
            <a:ext cx="2853000" cy="36576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685800" y="571500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PEMD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0880" y="380880"/>
            <a:ext cx="830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ff"/>
                </a:solidFill>
                <a:latin typeface="Arial"/>
              </a:rPr>
              <a:t>Objective: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tudents will identify and apply the Order of Operations to evaluate expr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8390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 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udents will identify and apply the Order of Operations to evaluate expressions</a:t>
            </a: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Skill Practice:  Complete the problems below using the order of oper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3 x (5+3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x 9 – 10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56 + 4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 (8 -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16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+ 9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1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 12 ÷ 3 x 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cc66"/>
                </a:solidFill>
                <a:latin typeface="Arial"/>
              </a:rPr>
              <a:t>	</a:t>
            </a:r>
            <a:r>
              <a:rPr b="0" lang="en-US" sz="4500" spc="-1" strike="noStrike">
                <a:solidFill>
                  <a:srgbClr val="00cc66"/>
                </a:solidFill>
                <a:latin typeface="Arial"/>
              </a:rPr>
              <a:t>	</a:t>
            </a:r>
            <a:r>
              <a:rPr b="0" lang="en-US" sz="4500" spc="-1" strike="noStrike">
                <a:solidFill>
                  <a:srgbClr val="00cc66"/>
                </a:solidFill>
                <a:latin typeface="Arial"/>
              </a:rPr>
              <a:t>	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3733920" y="5105520"/>
          <a:ext cx="914400" cy="83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5105520"/>
                    <a:ext cx="91440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>
            <a:off x="812880" y="3106800"/>
            <a:ext cx="1000080" cy="1162080"/>
          </a:xfrm>
          <a:custGeom>
            <a:avLst/>
            <a:gdLst/>
            <a:ahLst/>
            <a:rect l="l" t="t" r="r" b="b"/>
            <a:pathLst>
              <a:path w="2779" h="3226">
                <a:moveTo>
                  <a:pt x="4242" y="8731"/>
                </a:moveTo>
                <a:cubicBezTo>
                  <a:pt x="4217" y="8731"/>
                  <a:pt x="4209" y="8731"/>
                  <a:pt x="4192" y="8731"/>
                </a:cubicBezTo>
                <a:cubicBezTo>
                  <a:pt x="4192" y="8797"/>
                  <a:pt x="4192" y="8864"/>
                  <a:pt x="4192" y="8930"/>
                </a:cubicBezTo>
                <a:cubicBezTo>
                  <a:pt x="4270" y="8930"/>
                  <a:pt x="4336" y="8911"/>
                  <a:pt x="4415" y="8905"/>
                </a:cubicBezTo>
                <a:cubicBezTo>
                  <a:pt x="4550" y="8895"/>
                  <a:pt x="4680" y="8869"/>
                  <a:pt x="4812" y="8855"/>
                </a:cubicBezTo>
                <a:cubicBezTo>
                  <a:pt x="4885" y="8847"/>
                  <a:pt x="4962" y="8855"/>
                  <a:pt x="5035" y="8855"/>
                </a:cubicBezTo>
                <a:cubicBezTo>
                  <a:pt x="5035" y="8801"/>
                  <a:pt x="5024" y="8783"/>
                  <a:pt x="5011" y="8731"/>
                </a:cubicBezTo>
                <a:cubicBezTo>
                  <a:pt x="4999" y="8681"/>
                  <a:pt x="4962" y="8648"/>
                  <a:pt x="5011" y="8632"/>
                </a:cubicBezTo>
              </a:path>
              <a:path w="2779" h="3226">
                <a:moveTo>
                  <a:pt x="4713" y="9128"/>
                </a:moveTo>
                <a:cubicBezTo>
                  <a:pt x="4629" y="9092"/>
                  <a:pt x="4556" y="9094"/>
                  <a:pt x="4465" y="9128"/>
                </a:cubicBezTo>
                <a:cubicBezTo>
                  <a:pt x="4378" y="9172"/>
                  <a:pt x="4355" y="9179"/>
                  <a:pt x="4316" y="9227"/>
                </a:cubicBezTo>
                <a:cubicBezTo>
                  <a:pt x="4316" y="9350"/>
                  <a:pt x="4432" y="9329"/>
                  <a:pt x="4539" y="9376"/>
                </a:cubicBezTo>
                <a:cubicBezTo>
                  <a:pt x="4638" y="9419"/>
                  <a:pt x="4632" y="9431"/>
                  <a:pt x="4688" y="9500"/>
                </a:cubicBezTo>
                <a:cubicBezTo>
                  <a:pt x="4624" y="9539"/>
                  <a:pt x="4572" y="9537"/>
                  <a:pt x="4564" y="9451"/>
                </a:cubicBezTo>
                <a:cubicBezTo>
                  <a:pt x="4554" y="9339"/>
                  <a:pt x="4646" y="9269"/>
                  <a:pt x="4663" y="9153"/>
                </a:cubicBezTo>
              </a:path>
              <a:path w="2779" h="3226">
                <a:moveTo>
                  <a:pt x="2803" y="9103"/>
                </a:moveTo>
                <a:cubicBezTo>
                  <a:pt x="2896" y="9039"/>
                  <a:pt x="2935" y="9036"/>
                  <a:pt x="3051" y="9029"/>
                </a:cubicBezTo>
                <a:cubicBezTo>
                  <a:pt x="3051" y="9138"/>
                  <a:pt x="3002" y="9302"/>
                  <a:pt x="2853" y="9327"/>
                </a:cubicBezTo>
                <a:cubicBezTo>
                  <a:pt x="2853" y="9294"/>
                  <a:pt x="2861" y="9286"/>
                  <a:pt x="2902" y="9302"/>
                </a:cubicBezTo>
                <a:cubicBezTo>
                  <a:pt x="3044" y="9355"/>
                  <a:pt x="3222" y="9466"/>
                  <a:pt x="3001" y="9599"/>
                </a:cubicBezTo>
                <a:cubicBezTo>
                  <a:pt x="2859" y="9685"/>
                  <a:pt x="2672" y="9684"/>
                  <a:pt x="2604" y="9550"/>
                </a:cubicBezTo>
              </a:path>
              <a:path w="2779" h="3226">
                <a:moveTo>
                  <a:pt x="3398" y="9227"/>
                </a:moveTo>
                <a:cubicBezTo>
                  <a:pt x="3478" y="9247"/>
                  <a:pt x="3538" y="9364"/>
                  <a:pt x="3597" y="9426"/>
                </a:cubicBezTo>
                <a:cubicBezTo>
                  <a:pt x="3638" y="9469"/>
                  <a:pt x="3654" y="9510"/>
                  <a:pt x="3671" y="9475"/>
                </a:cubicBezTo>
              </a:path>
              <a:path w="2779" h="3226">
                <a:moveTo>
                  <a:pt x="3696" y="9128"/>
                </a:moveTo>
                <a:cubicBezTo>
                  <a:pt x="3659" y="9257"/>
                  <a:pt x="3573" y="9387"/>
                  <a:pt x="3497" y="9500"/>
                </a:cubicBezTo>
                <a:cubicBezTo>
                  <a:pt x="3472" y="9536"/>
                  <a:pt x="3480" y="9539"/>
                  <a:pt x="3448" y="9550"/>
                </a:cubicBezTo>
              </a:path>
              <a:path w="2779" h="3226">
                <a:moveTo>
                  <a:pt x="3249" y="9798"/>
                </a:moveTo>
                <a:cubicBezTo>
                  <a:pt x="3245" y="9899"/>
                  <a:pt x="3225" y="9997"/>
                  <a:pt x="3225" y="10096"/>
                </a:cubicBezTo>
                <a:cubicBezTo>
                  <a:pt x="3468" y="10051"/>
                  <a:pt x="3692" y="9986"/>
                  <a:pt x="3944" y="9996"/>
                </a:cubicBezTo>
                <a:cubicBezTo>
                  <a:pt x="4041" y="10000"/>
                  <a:pt x="4122" y="10021"/>
                  <a:pt x="4217" y="10021"/>
                </a:cubicBezTo>
                <a:cubicBezTo>
                  <a:pt x="4225" y="9929"/>
                  <a:pt x="4242" y="9841"/>
                  <a:pt x="4242" y="9748"/>
                </a:cubicBezTo>
              </a:path>
              <a:path w="2779" h="3226">
                <a:moveTo>
                  <a:pt x="3373" y="10567"/>
                </a:moveTo>
                <a:cubicBezTo>
                  <a:pt x="3429" y="10567"/>
                  <a:pt x="3531" y="10503"/>
                  <a:pt x="3572" y="10517"/>
                </a:cubicBezTo>
                <a:cubicBezTo>
                  <a:pt x="3823" y="10604"/>
                  <a:pt x="3649" y="10976"/>
                  <a:pt x="3522" y="11088"/>
                </a:cubicBezTo>
                <a:cubicBezTo>
                  <a:pt x="3360" y="11230"/>
                  <a:pt x="3216" y="11287"/>
                  <a:pt x="3051" y="11237"/>
                </a:cubicBezTo>
                <a:cubicBezTo>
                  <a:pt x="3120" y="11089"/>
                  <a:pt x="3252" y="10972"/>
                  <a:pt x="3448" y="11038"/>
                </a:cubicBezTo>
                <a:cubicBezTo>
                  <a:pt x="3526" y="11064"/>
                  <a:pt x="3603" y="11250"/>
                  <a:pt x="3621" y="11212"/>
                </a:cubicBezTo>
              </a:path>
              <a:path w="2779" h="3226">
                <a:moveTo>
                  <a:pt x="3870" y="10592"/>
                </a:moveTo>
                <a:cubicBezTo>
                  <a:pt x="3847" y="10704"/>
                  <a:pt x="3813" y="10822"/>
                  <a:pt x="3795" y="10939"/>
                </a:cubicBezTo>
                <a:cubicBezTo>
                  <a:pt x="3795" y="10947"/>
                  <a:pt x="3795" y="10956"/>
                  <a:pt x="3795" y="10964"/>
                </a:cubicBezTo>
                <a:cubicBezTo>
                  <a:pt x="3918" y="10955"/>
                  <a:pt x="4027" y="10936"/>
                  <a:pt x="4142" y="10889"/>
                </a:cubicBezTo>
              </a:path>
              <a:path w="2779" h="3226">
                <a:moveTo>
                  <a:pt x="4118" y="10443"/>
                </a:moveTo>
                <a:cubicBezTo>
                  <a:pt x="4089" y="10618"/>
                  <a:pt x="4079" y="10807"/>
                  <a:pt x="4093" y="10988"/>
                </a:cubicBezTo>
                <a:cubicBezTo>
                  <a:pt x="4103" y="11121"/>
                  <a:pt x="4117" y="11168"/>
                  <a:pt x="4093" y="11286"/>
                </a:cubicBezTo>
              </a:path>
              <a:path w="2779" h="3226">
                <a:moveTo>
                  <a:pt x="2604" y="11559"/>
                </a:moveTo>
                <a:cubicBezTo>
                  <a:pt x="2825" y="11663"/>
                  <a:pt x="3073" y="11711"/>
                  <a:pt x="3324" y="11708"/>
                </a:cubicBezTo>
                <a:cubicBezTo>
                  <a:pt x="3648" y="11705"/>
                  <a:pt x="4087" y="11684"/>
                  <a:pt x="4390" y="11559"/>
                </a:cubicBezTo>
                <a:cubicBezTo>
                  <a:pt x="4593" y="11475"/>
                  <a:pt x="4765" y="11221"/>
                  <a:pt x="4812" y="11013"/>
                </a:cubicBezTo>
                <a:cubicBezTo>
                  <a:pt x="4842" y="10883"/>
                  <a:pt x="4774" y="10704"/>
                  <a:pt x="4713" y="10592"/>
                </a:cubicBezTo>
                <a:cubicBezTo>
                  <a:pt x="4641" y="10460"/>
                  <a:pt x="4460" y="10388"/>
                  <a:pt x="4316" y="10368"/>
                </a:cubicBezTo>
                <a:cubicBezTo>
                  <a:pt x="4033" y="10329"/>
                  <a:pt x="3704" y="10363"/>
                  <a:pt x="3423" y="10393"/>
                </a:cubicBezTo>
                <a:cubicBezTo>
                  <a:pt x="3172" y="10420"/>
                  <a:pt x="2892" y="10443"/>
                  <a:pt x="2679" y="10592"/>
                </a:cubicBezTo>
                <a:cubicBezTo>
                  <a:pt x="2506" y="10713"/>
                  <a:pt x="2420" y="10933"/>
                  <a:pt x="2332" y="11112"/>
                </a:cubicBezTo>
                <a:cubicBezTo>
                  <a:pt x="2221" y="11338"/>
                  <a:pt x="2259" y="11443"/>
                  <a:pt x="2381" y="11658"/>
                </a:cubicBezTo>
                <a:cubicBezTo>
                  <a:pt x="2482" y="11837"/>
                  <a:pt x="2609" y="11851"/>
                  <a:pt x="2803" y="11857"/>
                </a:cubicBezTo>
                <a:cubicBezTo>
                  <a:pt x="2844" y="11857"/>
                  <a:pt x="2852" y="11857"/>
                  <a:pt x="2877" y="118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39840" y="4911840"/>
            <a:ext cx="463320" cy="536400"/>
          </a:xfrm>
          <a:custGeom>
            <a:avLst/>
            <a:gdLst/>
            <a:ahLst/>
            <a:rect l="l" t="t" r="r" b="b"/>
            <a:pathLst>
              <a:path w="1290" h="1489">
                <a:moveTo>
                  <a:pt x="1215" y="14932"/>
                </a:moveTo>
                <a:cubicBezTo>
                  <a:pt x="1282" y="14954"/>
                  <a:pt x="1241" y="14948"/>
                  <a:pt x="1290" y="15007"/>
                </a:cubicBezTo>
                <a:cubicBezTo>
                  <a:pt x="1399" y="15139"/>
                  <a:pt x="1504" y="15131"/>
                  <a:pt x="1662" y="15131"/>
                </a:cubicBezTo>
                <a:cubicBezTo>
                  <a:pt x="1758" y="15131"/>
                  <a:pt x="1847" y="15126"/>
                  <a:pt x="1935" y="15081"/>
                </a:cubicBezTo>
                <a:cubicBezTo>
                  <a:pt x="2028" y="15033"/>
                  <a:pt x="2106" y="15023"/>
                  <a:pt x="2158" y="14932"/>
                </a:cubicBezTo>
                <a:cubicBezTo>
                  <a:pt x="2213" y="14835"/>
                  <a:pt x="2229" y="14693"/>
                  <a:pt x="2232" y="14585"/>
                </a:cubicBezTo>
                <a:cubicBezTo>
                  <a:pt x="2236" y="14452"/>
                  <a:pt x="2230" y="14315"/>
                  <a:pt x="2183" y="14188"/>
                </a:cubicBezTo>
                <a:cubicBezTo>
                  <a:pt x="2147" y="14090"/>
                  <a:pt x="2128" y="13974"/>
                  <a:pt x="2059" y="13891"/>
                </a:cubicBezTo>
                <a:cubicBezTo>
                  <a:pt x="1982" y="13798"/>
                  <a:pt x="1867" y="13746"/>
                  <a:pt x="1761" y="13692"/>
                </a:cubicBezTo>
                <a:cubicBezTo>
                  <a:pt x="1588" y="13604"/>
                  <a:pt x="1439" y="13652"/>
                  <a:pt x="1265" y="13717"/>
                </a:cubicBezTo>
                <a:cubicBezTo>
                  <a:pt x="1097" y="13780"/>
                  <a:pt x="1051" y="13844"/>
                  <a:pt x="1017" y="14015"/>
                </a:cubicBezTo>
                <a:cubicBezTo>
                  <a:pt x="989" y="14153"/>
                  <a:pt x="917" y="14344"/>
                  <a:pt x="943" y="14486"/>
                </a:cubicBezTo>
                <a:cubicBezTo>
                  <a:pt x="962" y="14590"/>
                  <a:pt x="1000" y="14820"/>
                  <a:pt x="1067" y="14908"/>
                </a:cubicBezTo>
                <a:cubicBezTo>
                  <a:pt x="1129" y="14990"/>
                  <a:pt x="1204" y="15021"/>
                  <a:pt x="1290" y="150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41200" y="2759040"/>
            <a:ext cx="527040" cy="411120"/>
          </a:xfrm>
          <a:custGeom>
            <a:avLst/>
            <a:gdLst/>
            <a:ahLst/>
            <a:rect l="l" t="t" r="r" b="b"/>
            <a:pathLst>
              <a:path w="1464" h="1142">
                <a:moveTo>
                  <a:pt x="943" y="8632"/>
                </a:moveTo>
                <a:cubicBezTo>
                  <a:pt x="1021" y="8695"/>
                  <a:pt x="1097" y="8729"/>
                  <a:pt x="1215" y="8756"/>
                </a:cubicBezTo>
                <a:cubicBezTo>
                  <a:pt x="1359" y="8789"/>
                  <a:pt x="1548" y="8797"/>
                  <a:pt x="1687" y="8731"/>
                </a:cubicBezTo>
                <a:cubicBezTo>
                  <a:pt x="1784" y="8685"/>
                  <a:pt x="1957" y="8588"/>
                  <a:pt x="2034" y="8508"/>
                </a:cubicBezTo>
                <a:cubicBezTo>
                  <a:pt x="2120" y="8419"/>
                  <a:pt x="2131" y="8321"/>
                  <a:pt x="2108" y="8210"/>
                </a:cubicBezTo>
                <a:cubicBezTo>
                  <a:pt x="2077" y="8061"/>
                  <a:pt x="2037" y="7955"/>
                  <a:pt x="1935" y="7838"/>
                </a:cubicBezTo>
                <a:cubicBezTo>
                  <a:pt x="1832" y="7719"/>
                  <a:pt x="1740" y="7671"/>
                  <a:pt x="1588" y="7665"/>
                </a:cubicBezTo>
                <a:cubicBezTo>
                  <a:pt x="1404" y="7657"/>
                  <a:pt x="1235" y="7655"/>
                  <a:pt x="1067" y="7739"/>
                </a:cubicBezTo>
                <a:cubicBezTo>
                  <a:pt x="945" y="7800"/>
                  <a:pt x="810" y="7917"/>
                  <a:pt x="744" y="8037"/>
                </a:cubicBezTo>
                <a:cubicBezTo>
                  <a:pt x="664" y="8183"/>
                  <a:pt x="629" y="8384"/>
                  <a:pt x="719" y="8533"/>
                </a:cubicBezTo>
                <a:cubicBezTo>
                  <a:pt x="791" y="8653"/>
                  <a:pt x="966" y="8743"/>
                  <a:pt x="1091" y="8781"/>
                </a:cubicBezTo>
                <a:cubicBezTo>
                  <a:pt x="1147" y="8798"/>
                  <a:pt x="1277" y="8832"/>
                  <a:pt x="1339" y="8806"/>
                </a:cubicBezTo>
                <a:cubicBezTo>
                  <a:pt x="1339" y="8798"/>
                  <a:pt x="1339" y="8789"/>
                  <a:pt x="1339" y="878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857840" y="3286080"/>
            <a:ext cx="17280" cy="206280"/>
          </a:xfrm>
          <a:custGeom>
            <a:avLst/>
            <a:gdLst/>
            <a:ahLst/>
            <a:rect l="l" t="t" r="r" b="b"/>
            <a:pathLst>
              <a:path w="50" h="572">
                <a:moveTo>
                  <a:pt x="13543" y="9128"/>
                </a:moveTo>
                <a:cubicBezTo>
                  <a:pt x="13535" y="9128"/>
                  <a:pt x="13527" y="9128"/>
                  <a:pt x="13519" y="9128"/>
                </a:cubicBezTo>
              </a:path>
              <a:path w="50" h="572">
                <a:moveTo>
                  <a:pt x="13519" y="9674"/>
                </a:moveTo>
                <a:cubicBezTo>
                  <a:pt x="13494" y="9674"/>
                  <a:pt x="13486" y="9674"/>
                  <a:pt x="13494" y="969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973240" y="2776680"/>
            <a:ext cx="2197080" cy="1152360"/>
          </a:xfrm>
          <a:custGeom>
            <a:avLst/>
            <a:gdLst/>
            <a:ahLst/>
            <a:rect l="l" t="t" r="r" b="b"/>
            <a:pathLst>
              <a:path w="6103" h="3201">
                <a:moveTo>
                  <a:pt x="8533" y="8855"/>
                </a:moveTo>
                <a:cubicBezTo>
                  <a:pt x="8554" y="8918"/>
                  <a:pt x="8568" y="8916"/>
                  <a:pt x="8657" y="8954"/>
                </a:cubicBezTo>
                <a:cubicBezTo>
                  <a:pt x="8756" y="8996"/>
                  <a:pt x="8880" y="9004"/>
                  <a:pt x="8979" y="8979"/>
                </a:cubicBezTo>
                <a:cubicBezTo>
                  <a:pt x="9054" y="8960"/>
                  <a:pt x="9132" y="8956"/>
                  <a:pt x="9203" y="8930"/>
                </a:cubicBezTo>
                <a:cubicBezTo>
                  <a:pt x="9272" y="8905"/>
                  <a:pt x="9323" y="8878"/>
                  <a:pt x="9376" y="8830"/>
                </a:cubicBezTo>
                <a:cubicBezTo>
                  <a:pt x="9463" y="8751"/>
                  <a:pt x="9473" y="8709"/>
                  <a:pt x="9500" y="8607"/>
                </a:cubicBezTo>
                <a:cubicBezTo>
                  <a:pt x="9518" y="8538"/>
                  <a:pt x="9545" y="8522"/>
                  <a:pt x="9550" y="8458"/>
                </a:cubicBezTo>
                <a:cubicBezTo>
                  <a:pt x="9557" y="8367"/>
                  <a:pt x="9566" y="8246"/>
                  <a:pt x="9525" y="8161"/>
                </a:cubicBezTo>
                <a:cubicBezTo>
                  <a:pt x="9501" y="8112"/>
                  <a:pt x="9478" y="8056"/>
                  <a:pt x="9451" y="8012"/>
                </a:cubicBezTo>
                <a:cubicBezTo>
                  <a:pt x="9416" y="7956"/>
                  <a:pt x="9360" y="7876"/>
                  <a:pt x="9302" y="7838"/>
                </a:cubicBezTo>
                <a:cubicBezTo>
                  <a:pt x="9233" y="7793"/>
                  <a:pt x="9087" y="7728"/>
                  <a:pt x="9004" y="7714"/>
                </a:cubicBezTo>
                <a:cubicBezTo>
                  <a:pt x="8925" y="7701"/>
                  <a:pt x="8802" y="7704"/>
                  <a:pt x="8731" y="7739"/>
                </a:cubicBezTo>
                <a:cubicBezTo>
                  <a:pt x="8639" y="7784"/>
                  <a:pt x="8577" y="7829"/>
                  <a:pt x="8508" y="7888"/>
                </a:cubicBezTo>
                <a:cubicBezTo>
                  <a:pt x="8413" y="7969"/>
                  <a:pt x="8350" y="8033"/>
                  <a:pt x="8285" y="8136"/>
                </a:cubicBezTo>
                <a:cubicBezTo>
                  <a:pt x="8240" y="8207"/>
                  <a:pt x="8260" y="8303"/>
                  <a:pt x="8260" y="8384"/>
                </a:cubicBezTo>
                <a:cubicBezTo>
                  <a:pt x="8260" y="8457"/>
                  <a:pt x="8260" y="8516"/>
                  <a:pt x="8285" y="8582"/>
                </a:cubicBezTo>
                <a:cubicBezTo>
                  <a:pt x="8306" y="8637"/>
                  <a:pt x="8350" y="8678"/>
                  <a:pt x="8384" y="8706"/>
                </a:cubicBezTo>
                <a:cubicBezTo>
                  <a:pt x="8413" y="8730"/>
                  <a:pt x="8454" y="8762"/>
                  <a:pt x="8483" y="8806"/>
                </a:cubicBezTo>
                <a:cubicBezTo>
                  <a:pt x="8513" y="8852"/>
                  <a:pt x="8580" y="8899"/>
                  <a:pt x="8607" y="8905"/>
                </a:cubicBezTo>
                <a:cubicBezTo>
                  <a:pt x="8674" y="8920"/>
                  <a:pt x="8641" y="8905"/>
                  <a:pt x="8682" y="8930"/>
                </a:cubicBezTo>
              </a:path>
              <a:path w="6103" h="3201">
                <a:moveTo>
                  <a:pt x="10120" y="8682"/>
                </a:moveTo>
                <a:cubicBezTo>
                  <a:pt x="10141" y="8722"/>
                  <a:pt x="10120" y="8763"/>
                  <a:pt x="10120" y="8830"/>
                </a:cubicBezTo>
                <a:cubicBezTo>
                  <a:pt x="10120" y="8855"/>
                  <a:pt x="10120" y="8880"/>
                  <a:pt x="10120" y="8905"/>
                </a:cubicBezTo>
                <a:cubicBezTo>
                  <a:pt x="10240" y="8905"/>
                  <a:pt x="10349" y="8884"/>
                  <a:pt x="10468" y="8880"/>
                </a:cubicBezTo>
                <a:cubicBezTo>
                  <a:pt x="10614" y="8875"/>
                  <a:pt x="10751" y="8887"/>
                  <a:pt x="10889" y="8855"/>
                </a:cubicBezTo>
                <a:cubicBezTo>
                  <a:pt x="11008" y="8827"/>
                  <a:pt x="11149" y="8860"/>
                  <a:pt x="11261" y="8880"/>
                </a:cubicBezTo>
                <a:cubicBezTo>
                  <a:pt x="11314" y="8889"/>
                  <a:pt x="11339" y="8893"/>
                  <a:pt x="11385" y="8905"/>
                </a:cubicBezTo>
                <a:cubicBezTo>
                  <a:pt x="11397" y="8843"/>
                  <a:pt x="11410" y="8798"/>
                  <a:pt x="11410" y="8731"/>
                </a:cubicBezTo>
                <a:cubicBezTo>
                  <a:pt x="11410" y="8698"/>
                  <a:pt x="11410" y="8665"/>
                  <a:pt x="11410" y="8632"/>
                </a:cubicBezTo>
              </a:path>
              <a:path w="6103" h="3201">
                <a:moveTo>
                  <a:pt x="10666" y="9227"/>
                </a:moveTo>
                <a:cubicBezTo>
                  <a:pt x="10631" y="9159"/>
                  <a:pt x="10551" y="9537"/>
                  <a:pt x="10542" y="9575"/>
                </a:cubicBezTo>
                <a:cubicBezTo>
                  <a:pt x="10523" y="9669"/>
                  <a:pt x="10537" y="9689"/>
                  <a:pt x="10492" y="9723"/>
                </a:cubicBezTo>
              </a:path>
              <a:path w="6103" h="3201">
                <a:moveTo>
                  <a:pt x="11212" y="9277"/>
                </a:moveTo>
                <a:cubicBezTo>
                  <a:pt x="11104" y="9277"/>
                  <a:pt x="11007" y="9321"/>
                  <a:pt x="10914" y="9376"/>
                </a:cubicBezTo>
                <a:cubicBezTo>
                  <a:pt x="10906" y="9384"/>
                  <a:pt x="10897" y="9393"/>
                  <a:pt x="10889" y="9401"/>
                </a:cubicBezTo>
                <a:cubicBezTo>
                  <a:pt x="10963" y="9474"/>
                  <a:pt x="11076" y="9548"/>
                  <a:pt x="11112" y="9649"/>
                </a:cubicBezTo>
                <a:cubicBezTo>
                  <a:pt x="11112" y="9674"/>
                  <a:pt x="11112" y="9698"/>
                  <a:pt x="11112" y="9723"/>
                </a:cubicBezTo>
                <a:cubicBezTo>
                  <a:pt x="10995" y="9723"/>
                  <a:pt x="10947" y="9746"/>
                  <a:pt x="10964" y="9599"/>
                </a:cubicBezTo>
                <a:cubicBezTo>
                  <a:pt x="10982" y="9447"/>
                  <a:pt x="11113" y="9405"/>
                  <a:pt x="11162" y="9277"/>
                </a:cubicBezTo>
                <a:cubicBezTo>
                  <a:pt x="11162" y="9260"/>
                  <a:pt x="11162" y="9244"/>
                  <a:pt x="11162" y="9227"/>
                </a:cubicBezTo>
              </a:path>
              <a:path w="6103" h="3201">
                <a:moveTo>
                  <a:pt x="11633" y="9426"/>
                </a:moveTo>
                <a:cubicBezTo>
                  <a:pt x="11776" y="9426"/>
                  <a:pt x="11913" y="9409"/>
                  <a:pt x="12055" y="9401"/>
                </a:cubicBezTo>
              </a:path>
              <a:path w="6103" h="3201">
                <a:moveTo>
                  <a:pt x="12402" y="9079"/>
                </a:moveTo>
                <a:cubicBezTo>
                  <a:pt x="12402" y="9221"/>
                  <a:pt x="12385" y="9361"/>
                  <a:pt x="12353" y="9500"/>
                </a:cubicBezTo>
                <a:cubicBezTo>
                  <a:pt x="12334" y="9558"/>
                  <a:pt x="12325" y="9564"/>
                  <a:pt x="12328" y="9599"/>
                </a:cubicBezTo>
              </a:path>
              <a:path w="6103" h="3201">
                <a:moveTo>
                  <a:pt x="12799" y="9153"/>
                </a:moveTo>
                <a:cubicBezTo>
                  <a:pt x="12700" y="9228"/>
                  <a:pt x="12639" y="9317"/>
                  <a:pt x="12650" y="9451"/>
                </a:cubicBezTo>
                <a:cubicBezTo>
                  <a:pt x="12661" y="9582"/>
                  <a:pt x="12758" y="9646"/>
                  <a:pt x="12874" y="9550"/>
                </a:cubicBezTo>
                <a:cubicBezTo>
                  <a:pt x="12977" y="9464"/>
                  <a:pt x="13002" y="9351"/>
                  <a:pt x="12923" y="9252"/>
                </a:cubicBezTo>
                <a:cubicBezTo>
                  <a:pt x="12864" y="9178"/>
                  <a:pt x="12838" y="9178"/>
                  <a:pt x="12750" y="9178"/>
                </a:cubicBezTo>
              </a:path>
              <a:path w="6103" h="3201">
                <a:moveTo>
                  <a:pt x="13345" y="9426"/>
                </a:moveTo>
                <a:cubicBezTo>
                  <a:pt x="13433" y="9426"/>
                  <a:pt x="13506" y="9417"/>
                  <a:pt x="13593" y="9401"/>
                </a:cubicBezTo>
              </a:path>
              <a:path w="6103" h="3201">
                <a:moveTo>
                  <a:pt x="13965" y="9252"/>
                </a:moveTo>
                <a:cubicBezTo>
                  <a:pt x="13965" y="9170"/>
                  <a:pt x="14003" y="9165"/>
                  <a:pt x="14089" y="9128"/>
                </a:cubicBezTo>
                <a:cubicBezTo>
                  <a:pt x="14200" y="9080"/>
                  <a:pt x="14298" y="9113"/>
                  <a:pt x="14288" y="9252"/>
                </a:cubicBezTo>
                <a:cubicBezTo>
                  <a:pt x="14278" y="9380"/>
                  <a:pt x="14117" y="9491"/>
                  <a:pt x="14039" y="9575"/>
                </a:cubicBezTo>
                <a:cubicBezTo>
                  <a:pt x="13971" y="9648"/>
                  <a:pt x="13937" y="9662"/>
                  <a:pt x="13915" y="9748"/>
                </a:cubicBezTo>
                <a:cubicBezTo>
                  <a:pt x="13961" y="9697"/>
                  <a:pt x="13973" y="9649"/>
                  <a:pt x="14039" y="9649"/>
                </a:cubicBezTo>
                <a:cubicBezTo>
                  <a:pt x="14142" y="9649"/>
                  <a:pt x="14218" y="9688"/>
                  <a:pt x="14312" y="9674"/>
                </a:cubicBezTo>
                <a:cubicBezTo>
                  <a:pt x="14340" y="9674"/>
                  <a:pt x="14351" y="9672"/>
                  <a:pt x="14362" y="9649"/>
                </a:cubicBezTo>
              </a:path>
              <a:path w="6103" h="3201">
                <a:moveTo>
                  <a:pt x="12725" y="9773"/>
                </a:moveTo>
                <a:cubicBezTo>
                  <a:pt x="12787" y="9794"/>
                  <a:pt x="12772" y="9907"/>
                  <a:pt x="12774" y="9971"/>
                </a:cubicBezTo>
                <a:cubicBezTo>
                  <a:pt x="12774" y="10029"/>
                  <a:pt x="12774" y="10038"/>
                  <a:pt x="12774" y="10071"/>
                </a:cubicBezTo>
                <a:cubicBezTo>
                  <a:pt x="12880" y="10071"/>
                  <a:pt x="12962" y="10075"/>
                  <a:pt x="13072" y="10071"/>
                </a:cubicBezTo>
                <a:cubicBezTo>
                  <a:pt x="13256" y="10064"/>
                  <a:pt x="13434" y="10046"/>
                  <a:pt x="13618" y="10046"/>
                </a:cubicBezTo>
                <a:cubicBezTo>
                  <a:pt x="13707" y="10046"/>
                  <a:pt x="13779" y="10071"/>
                  <a:pt x="13866" y="10071"/>
                </a:cubicBezTo>
                <a:cubicBezTo>
                  <a:pt x="13898" y="10071"/>
                  <a:pt x="13977" y="10087"/>
                  <a:pt x="13990" y="10046"/>
                </a:cubicBezTo>
                <a:cubicBezTo>
                  <a:pt x="14007" y="9990"/>
                  <a:pt x="13990" y="9906"/>
                  <a:pt x="13990" y="9847"/>
                </a:cubicBezTo>
              </a:path>
              <a:path w="6103" h="3201">
                <a:moveTo>
                  <a:pt x="13494" y="10418"/>
                </a:moveTo>
                <a:cubicBezTo>
                  <a:pt x="13394" y="10418"/>
                  <a:pt x="13317" y="10446"/>
                  <a:pt x="13221" y="10468"/>
                </a:cubicBezTo>
                <a:cubicBezTo>
                  <a:pt x="13174" y="10479"/>
                  <a:pt x="13196" y="10566"/>
                  <a:pt x="13196" y="10616"/>
                </a:cubicBezTo>
                <a:cubicBezTo>
                  <a:pt x="13196" y="10658"/>
                  <a:pt x="13196" y="10666"/>
                  <a:pt x="13196" y="10691"/>
                </a:cubicBezTo>
                <a:cubicBezTo>
                  <a:pt x="13271" y="10676"/>
                  <a:pt x="13367" y="10613"/>
                  <a:pt x="13444" y="10616"/>
                </a:cubicBezTo>
                <a:cubicBezTo>
                  <a:pt x="13546" y="10620"/>
                  <a:pt x="13589" y="10726"/>
                  <a:pt x="13568" y="10815"/>
                </a:cubicBezTo>
                <a:cubicBezTo>
                  <a:pt x="13545" y="10914"/>
                  <a:pt x="13270" y="10910"/>
                  <a:pt x="13196" y="10914"/>
                </a:cubicBezTo>
                <a:cubicBezTo>
                  <a:pt x="13188" y="10914"/>
                  <a:pt x="13179" y="10914"/>
                  <a:pt x="13171" y="1091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73680" y="3786120"/>
            <a:ext cx="706320" cy="750960"/>
          </a:xfrm>
          <a:custGeom>
            <a:avLst/>
            <a:gdLst/>
            <a:ahLst/>
            <a:rect l="l" t="t" r="r" b="b"/>
            <a:pathLst>
              <a:path w="1961" h="2085">
                <a:moveTo>
                  <a:pt x="11137" y="10517"/>
                </a:moveTo>
                <a:cubicBezTo>
                  <a:pt x="11097" y="10705"/>
                  <a:pt x="11067" y="10897"/>
                  <a:pt x="11038" y="11088"/>
                </a:cubicBezTo>
                <a:cubicBezTo>
                  <a:pt x="11038" y="11096"/>
                  <a:pt x="11038" y="11104"/>
                  <a:pt x="11038" y="11112"/>
                </a:cubicBezTo>
              </a:path>
              <a:path w="1961" h="2085">
                <a:moveTo>
                  <a:pt x="11633" y="10517"/>
                </a:moveTo>
                <a:cubicBezTo>
                  <a:pt x="11542" y="10529"/>
                  <a:pt x="11460" y="10581"/>
                  <a:pt x="11410" y="10666"/>
                </a:cubicBezTo>
                <a:cubicBezTo>
                  <a:pt x="11342" y="10782"/>
                  <a:pt x="11434" y="10849"/>
                  <a:pt x="11509" y="10914"/>
                </a:cubicBezTo>
                <a:cubicBezTo>
                  <a:pt x="11556" y="10955"/>
                  <a:pt x="11628" y="11036"/>
                  <a:pt x="11559" y="11088"/>
                </a:cubicBezTo>
                <a:cubicBezTo>
                  <a:pt x="11497" y="11135"/>
                  <a:pt x="11474" y="11128"/>
                  <a:pt x="11410" y="11112"/>
                </a:cubicBezTo>
                <a:cubicBezTo>
                  <a:pt x="11422" y="11002"/>
                  <a:pt x="11464" y="10905"/>
                  <a:pt x="11534" y="10815"/>
                </a:cubicBezTo>
                <a:cubicBezTo>
                  <a:pt x="11555" y="10788"/>
                  <a:pt x="11685" y="10643"/>
                  <a:pt x="11658" y="10616"/>
                </a:cubicBezTo>
                <a:cubicBezTo>
                  <a:pt x="11642" y="10608"/>
                  <a:pt x="11625" y="10600"/>
                  <a:pt x="11609" y="10592"/>
                </a:cubicBezTo>
              </a:path>
              <a:path w="1961" h="2085">
                <a:moveTo>
                  <a:pt x="12129" y="10840"/>
                </a:moveTo>
                <a:cubicBezTo>
                  <a:pt x="12212" y="10840"/>
                  <a:pt x="12295" y="10840"/>
                  <a:pt x="12378" y="10840"/>
                </a:cubicBezTo>
              </a:path>
              <a:path w="1961" h="2085">
                <a:moveTo>
                  <a:pt x="11534" y="11286"/>
                </a:moveTo>
                <a:cubicBezTo>
                  <a:pt x="11573" y="11374"/>
                  <a:pt x="11596" y="11477"/>
                  <a:pt x="11584" y="11584"/>
                </a:cubicBezTo>
                <a:cubicBezTo>
                  <a:pt x="11565" y="11641"/>
                  <a:pt x="11539" y="11666"/>
                  <a:pt x="11584" y="11658"/>
                </a:cubicBezTo>
                <a:cubicBezTo>
                  <a:pt x="11855" y="11624"/>
                  <a:pt x="12127" y="11567"/>
                  <a:pt x="12402" y="11534"/>
                </a:cubicBezTo>
                <a:cubicBezTo>
                  <a:pt x="12578" y="11513"/>
                  <a:pt x="12723" y="11534"/>
                  <a:pt x="12898" y="11534"/>
                </a:cubicBezTo>
                <a:cubicBezTo>
                  <a:pt x="12923" y="11534"/>
                  <a:pt x="12931" y="11534"/>
                  <a:pt x="12948" y="11534"/>
                </a:cubicBezTo>
                <a:cubicBezTo>
                  <a:pt x="12955" y="11422"/>
                  <a:pt x="12982" y="11322"/>
                  <a:pt x="12998" y="11212"/>
                </a:cubicBezTo>
                <a:cubicBezTo>
                  <a:pt x="12998" y="11187"/>
                  <a:pt x="12998" y="11179"/>
                  <a:pt x="12998" y="11162"/>
                </a:cubicBezTo>
              </a:path>
              <a:path w="1961" h="2085">
                <a:moveTo>
                  <a:pt x="11906" y="11832"/>
                </a:moveTo>
                <a:cubicBezTo>
                  <a:pt x="11926" y="11994"/>
                  <a:pt x="11910" y="12139"/>
                  <a:pt x="11906" y="12303"/>
                </a:cubicBezTo>
                <a:cubicBezTo>
                  <a:pt x="11906" y="12328"/>
                  <a:pt x="11906" y="12353"/>
                  <a:pt x="11906" y="12378"/>
                </a:cubicBezTo>
              </a:path>
              <a:path w="1961" h="2085">
                <a:moveTo>
                  <a:pt x="12229" y="11931"/>
                </a:moveTo>
                <a:cubicBezTo>
                  <a:pt x="12276" y="11905"/>
                  <a:pt x="12438" y="11780"/>
                  <a:pt x="12477" y="11881"/>
                </a:cubicBezTo>
                <a:cubicBezTo>
                  <a:pt x="12520" y="11993"/>
                  <a:pt x="12415" y="12047"/>
                  <a:pt x="12353" y="12105"/>
                </a:cubicBezTo>
                <a:cubicBezTo>
                  <a:pt x="12278" y="12153"/>
                  <a:pt x="12421" y="12041"/>
                  <a:pt x="12477" y="12055"/>
                </a:cubicBezTo>
                <a:cubicBezTo>
                  <a:pt x="12626" y="12093"/>
                  <a:pt x="12539" y="12270"/>
                  <a:pt x="12452" y="12303"/>
                </a:cubicBezTo>
                <a:cubicBezTo>
                  <a:pt x="12369" y="12334"/>
                  <a:pt x="12290" y="12328"/>
                  <a:pt x="12204" y="12328"/>
                </a:cubicBezTo>
              </a:path>
              <a:path w="1961" h="2085">
                <a:moveTo>
                  <a:pt x="11534" y="12551"/>
                </a:moveTo>
                <a:cubicBezTo>
                  <a:pt x="11737" y="12599"/>
                  <a:pt x="11897" y="12603"/>
                  <a:pt x="12105" y="12576"/>
                </a:cubicBezTo>
                <a:cubicBezTo>
                  <a:pt x="12314" y="12549"/>
                  <a:pt x="12559" y="12518"/>
                  <a:pt x="12750" y="12427"/>
                </a:cubicBezTo>
                <a:cubicBezTo>
                  <a:pt x="12895" y="12358"/>
                  <a:pt x="12959" y="12260"/>
                  <a:pt x="12973" y="12105"/>
                </a:cubicBezTo>
                <a:cubicBezTo>
                  <a:pt x="12980" y="12030"/>
                  <a:pt x="12930" y="11953"/>
                  <a:pt x="12874" y="11906"/>
                </a:cubicBezTo>
                <a:cubicBezTo>
                  <a:pt x="12796" y="11840"/>
                  <a:pt x="12718" y="11798"/>
                  <a:pt x="12626" y="11757"/>
                </a:cubicBezTo>
                <a:cubicBezTo>
                  <a:pt x="12533" y="11715"/>
                  <a:pt x="12426" y="11729"/>
                  <a:pt x="12328" y="11708"/>
                </a:cubicBezTo>
                <a:cubicBezTo>
                  <a:pt x="12206" y="11682"/>
                  <a:pt x="12082" y="11706"/>
                  <a:pt x="11956" y="11733"/>
                </a:cubicBezTo>
                <a:cubicBezTo>
                  <a:pt x="11844" y="11757"/>
                  <a:pt x="11669" y="11796"/>
                  <a:pt x="11584" y="11881"/>
                </a:cubicBezTo>
                <a:cubicBezTo>
                  <a:pt x="11515" y="11950"/>
                  <a:pt x="11409" y="12080"/>
                  <a:pt x="11385" y="12179"/>
                </a:cubicBezTo>
                <a:cubicBezTo>
                  <a:pt x="11369" y="12246"/>
                  <a:pt x="11385" y="12318"/>
                  <a:pt x="11410" y="12378"/>
                </a:cubicBezTo>
                <a:cubicBezTo>
                  <a:pt x="11449" y="12468"/>
                  <a:pt x="11550" y="12469"/>
                  <a:pt x="11633" y="12502"/>
                </a:cubicBezTo>
                <a:cubicBezTo>
                  <a:pt x="11709" y="12533"/>
                  <a:pt x="11773" y="12526"/>
                  <a:pt x="11857" y="12526"/>
                </a:cubicBezTo>
                <a:cubicBezTo>
                  <a:pt x="11882" y="12526"/>
                  <a:pt x="11906" y="12526"/>
                  <a:pt x="11931" y="1252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187960" y="4884840"/>
            <a:ext cx="519120" cy="581040"/>
          </a:xfrm>
          <a:custGeom>
            <a:avLst/>
            <a:gdLst/>
            <a:ahLst/>
            <a:rect l="l" t="t" r="r" b="b"/>
            <a:pathLst>
              <a:path w="1439" h="1613">
                <a:moveTo>
                  <a:pt x="14684" y="15007"/>
                </a:moveTo>
                <a:cubicBezTo>
                  <a:pt x="14781" y="15048"/>
                  <a:pt x="14831" y="15099"/>
                  <a:pt x="14932" y="15131"/>
                </a:cubicBezTo>
                <a:cubicBezTo>
                  <a:pt x="15096" y="15184"/>
                  <a:pt x="15242" y="15172"/>
                  <a:pt x="15404" y="15156"/>
                </a:cubicBezTo>
                <a:cubicBezTo>
                  <a:pt x="15470" y="15149"/>
                  <a:pt x="15568" y="15124"/>
                  <a:pt x="15627" y="15081"/>
                </a:cubicBezTo>
                <a:cubicBezTo>
                  <a:pt x="15707" y="15022"/>
                  <a:pt x="15751" y="14912"/>
                  <a:pt x="15801" y="14833"/>
                </a:cubicBezTo>
                <a:cubicBezTo>
                  <a:pt x="15867" y="14729"/>
                  <a:pt x="15850" y="14603"/>
                  <a:pt x="15850" y="14486"/>
                </a:cubicBezTo>
                <a:cubicBezTo>
                  <a:pt x="15850" y="14329"/>
                  <a:pt x="15866" y="14166"/>
                  <a:pt x="15825" y="14015"/>
                </a:cubicBezTo>
                <a:cubicBezTo>
                  <a:pt x="15794" y="13901"/>
                  <a:pt x="15758" y="13844"/>
                  <a:pt x="15677" y="13767"/>
                </a:cubicBezTo>
                <a:cubicBezTo>
                  <a:pt x="15572" y="13666"/>
                  <a:pt x="15497" y="13625"/>
                  <a:pt x="15354" y="13593"/>
                </a:cubicBezTo>
                <a:cubicBezTo>
                  <a:pt x="15196" y="13557"/>
                  <a:pt x="15078" y="13592"/>
                  <a:pt x="14932" y="13643"/>
                </a:cubicBezTo>
                <a:cubicBezTo>
                  <a:pt x="14822" y="13682"/>
                  <a:pt x="14689" y="13777"/>
                  <a:pt x="14610" y="13866"/>
                </a:cubicBezTo>
                <a:cubicBezTo>
                  <a:pt x="14528" y="13959"/>
                  <a:pt x="14469" y="14097"/>
                  <a:pt x="14436" y="14213"/>
                </a:cubicBezTo>
                <a:cubicBezTo>
                  <a:pt x="14400" y="14340"/>
                  <a:pt x="14412" y="14461"/>
                  <a:pt x="14461" y="14585"/>
                </a:cubicBezTo>
                <a:cubicBezTo>
                  <a:pt x="14497" y="14677"/>
                  <a:pt x="14568" y="14762"/>
                  <a:pt x="14635" y="14833"/>
                </a:cubicBezTo>
                <a:cubicBezTo>
                  <a:pt x="14692" y="14893"/>
                  <a:pt x="14724" y="14921"/>
                  <a:pt x="14784" y="14957"/>
                </a:cubicBezTo>
                <a:cubicBezTo>
                  <a:pt x="14824" y="14977"/>
                  <a:pt x="14840" y="14976"/>
                  <a:pt x="14833" y="1500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062760" y="2768760"/>
            <a:ext cx="2287440" cy="1143000"/>
          </a:xfrm>
          <a:custGeom>
            <a:avLst/>
            <a:gdLst/>
            <a:ahLst/>
            <a:rect l="l" t="t" r="r" b="b"/>
            <a:pathLst>
              <a:path w="6351" h="3176">
                <a:moveTo>
                  <a:pt x="16917" y="8607"/>
                </a:moveTo>
                <a:cubicBezTo>
                  <a:pt x="16940" y="8646"/>
                  <a:pt x="16936" y="8682"/>
                  <a:pt x="16991" y="8731"/>
                </a:cubicBezTo>
                <a:cubicBezTo>
                  <a:pt x="17080" y="8810"/>
                  <a:pt x="17164" y="8829"/>
                  <a:pt x="17264" y="8880"/>
                </a:cubicBezTo>
                <a:cubicBezTo>
                  <a:pt x="17344" y="8920"/>
                  <a:pt x="17441" y="8968"/>
                  <a:pt x="17537" y="8954"/>
                </a:cubicBezTo>
                <a:cubicBezTo>
                  <a:pt x="17612" y="8943"/>
                  <a:pt x="17743" y="8936"/>
                  <a:pt x="17810" y="8905"/>
                </a:cubicBezTo>
                <a:cubicBezTo>
                  <a:pt x="17865" y="8880"/>
                  <a:pt x="18001" y="8786"/>
                  <a:pt x="18033" y="8731"/>
                </a:cubicBezTo>
                <a:cubicBezTo>
                  <a:pt x="18078" y="8655"/>
                  <a:pt x="18119" y="8498"/>
                  <a:pt x="18132" y="8409"/>
                </a:cubicBezTo>
                <a:cubicBezTo>
                  <a:pt x="18144" y="8326"/>
                  <a:pt x="18126" y="8238"/>
                  <a:pt x="18107" y="8161"/>
                </a:cubicBezTo>
                <a:cubicBezTo>
                  <a:pt x="18087" y="8084"/>
                  <a:pt x="18041" y="7994"/>
                  <a:pt x="17983" y="7938"/>
                </a:cubicBezTo>
                <a:cubicBezTo>
                  <a:pt x="17908" y="7865"/>
                  <a:pt x="17807" y="7805"/>
                  <a:pt x="17711" y="7764"/>
                </a:cubicBezTo>
                <a:cubicBezTo>
                  <a:pt x="17614" y="7722"/>
                  <a:pt x="17463" y="7682"/>
                  <a:pt x="17363" y="7689"/>
                </a:cubicBezTo>
                <a:cubicBezTo>
                  <a:pt x="17275" y="7695"/>
                  <a:pt x="17191" y="7730"/>
                  <a:pt x="17115" y="7764"/>
                </a:cubicBezTo>
                <a:cubicBezTo>
                  <a:pt x="17006" y="7814"/>
                  <a:pt x="16945" y="7876"/>
                  <a:pt x="16892" y="7987"/>
                </a:cubicBezTo>
                <a:cubicBezTo>
                  <a:pt x="16850" y="8073"/>
                  <a:pt x="16845" y="8192"/>
                  <a:pt x="16842" y="8285"/>
                </a:cubicBezTo>
                <a:cubicBezTo>
                  <a:pt x="16839" y="8370"/>
                  <a:pt x="16869" y="8440"/>
                  <a:pt x="16917" y="8508"/>
                </a:cubicBezTo>
                <a:cubicBezTo>
                  <a:pt x="16962" y="8572"/>
                  <a:pt x="17047" y="8620"/>
                  <a:pt x="17115" y="8657"/>
                </a:cubicBezTo>
                <a:cubicBezTo>
                  <a:pt x="17155" y="8679"/>
                  <a:pt x="17201" y="8692"/>
                  <a:pt x="17239" y="8706"/>
                </a:cubicBezTo>
              </a:path>
              <a:path w="6351" h="3176">
                <a:moveTo>
                  <a:pt x="22324" y="8657"/>
                </a:moveTo>
                <a:cubicBezTo>
                  <a:pt x="22341" y="8682"/>
                  <a:pt x="22324" y="8808"/>
                  <a:pt x="22324" y="8880"/>
                </a:cubicBezTo>
                <a:cubicBezTo>
                  <a:pt x="22459" y="8866"/>
                  <a:pt x="22584" y="8833"/>
                  <a:pt x="22721" y="8830"/>
                </a:cubicBezTo>
                <a:cubicBezTo>
                  <a:pt x="22878" y="8826"/>
                  <a:pt x="23035" y="8830"/>
                  <a:pt x="23192" y="8830"/>
                </a:cubicBezTo>
                <a:cubicBezTo>
                  <a:pt x="23192" y="8764"/>
                  <a:pt x="23192" y="8698"/>
                  <a:pt x="23192" y="8632"/>
                </a:cubicBezTo>
              </a:path>
              <a:path w="6351" h="3176">
                <a:moveTo>
                  <a:pt x="22473" y="9079"/>
                </a:moveTo>
                <a:cubicBezTo>
                  <a:pt x="22514" y="9052"/>
                  <a:pt x="22507" y="9093"/>
                  <a:pt x="22572" y="9054"/>
                </a:cubicBezTo>
                <a:cubicBezTo>
                  <a:pt x="22659" y="9002"/>
                  <a:pt x="22699" y="8957"/>
                  <a:pt x="22796" y="8930"/>
                </a:cubicBezTo>
                <a:cubicBezTo>
                  <a:pt x="22785" y="9074"/>
                  <a:pt x="22741" y="9123"/>
                  <a:pt x="22671" y="9227"/>
                </a:cubicBezTo>
                <a:cubicBezTo>
                  <a:pt x="22671" y="9252"/>
                  <a:pt x="22671" y="9260"/>
                  <a:pt x="22671" y="9227"/>
                </a:cubicBezTo>
                <a:cubicBezTo>
                  <a:pt x="22752" y="9214"/>
                  <a:pt x="22866" y="9167"/>
                  <a:pt x="22870" y="9302"/>
                </a:cubicBezTo>
                <a:cubicBezTo>
                  <a:pt x="22875" y="9453"/>
                  <a:pt x="22768" y="9551"/>
                  <a:pt x="22622" y="9525"/>
                </a:cubicBezTo>
                <a:cubicBezTo>
                  <a:pt x="22605" y="9517"/>
                  <a:pt x="22589" y="9508"/>
                  <a:pt x="22572" y="9500"/>
                </a:cubicBezTo>
              </a:path>
              <a:path w="6351" h="3176">
                <a:moveTo>
                  <a:pt x="18827" y="9203"/>
                </a:moveTo>
                <a:cubicBezTo>
                  <a:pt x="18730" y="9222"/>
                  <a:pt x="18630" y="9238"/>
                  <a:pt x="18529" y="9252"/>
                </a:cubicBezTo>
                <a:cubicBezTo>
                  <a:pt x="18468" y="9260"/>
                  <a:pt x="18461" y="9403"/>
                  <a:pt x="18455" y="9451"/>
                </a:cubicBezTo>
                <a:cubicBezTo>
                  <a:pt x="18455" y="9476"/>
                  <a:pt x="18455" y="9500"/>
                  <a:pt x="18455" y="9525"/>
                </a:cubicBezTo>
                <a:cubicBezTo>
                  <a:pt x="18557" y="9525"/>
                  <a:pt x="18626" y="9491"/>
                  <a:pt x="18728" y="9525"/>
                </a:cubicBezTo>
                <a:cubicBezTo>
                  <a:pt x="19019" y="9623"/>
                  <a:pt x="18714" y="9887"/>
                  <a:pt x="18554" y="9922"/>
                </a:cubicBezTo>
                <a:cubicBezTo>
                  <a:pt x="18420" y="9922"/>
                  <a:pt x="18380" y="9932"/>
                  <a:pt x="18331" y="9847"/>
                </a:cubicBezTo>
              </a:path>
              <a:path w="6351" h="3176">
                <a:moveTo>
                  <a:pt x="19149" y="9252"/>
                </a:moveTo>
                <a:cubicBezTo>
                  <a:pt x="19101" y="9313"/>
                  <a:pt x="19019" y="9547"/>
                  <a:pt x="19000" y="9649"/>
                </a:cubicBezTo>
                <a:cubicBezTo>
                  <a:pt x="18964" y="9842"/>
                  <a:pt x="19167" y="9925"/>
                  <a:pt x="19323" y="9847"/>
                </a:cubicBezTo>
                <a:cubicBezTo>
                  <a:pt x="19436" y="9790"/>
                  <a:pt x="19472" y="9683"/>
                  <a:pt x="19521" y="9575"/>
                </a:cubicBezTo>
                <a:cubicBezTo>
                  <a:pt x="19470" y="9536"/>
                  <a:pt x="19387" y="9501"/>
                  <a:pt x="19323" y="9550"/>
                </a:cubicBezTo>
                <a:cubicBezTo>
                  <a:pt x="19265" y="9595"/>
                  <a:pt x="19209" y="9778"/>
                  <a:pt x="19248" y="9847"/>
                </a:cubicBezTo>
                <a:cubicBezTo>
                  <a:pt x="19256" y="9847"/>
                  <a:pt x="19265" y="9847"/>
                  <a:pt x="19273" y="9847"/>
                </a:cubicBezTo>
              </a:path>
              <a:path w="6351" h="3176">
                <a:moveTo>
                  <a:pt x="19993" y="9277"/>
                </a:moveTo>
                <a:cubicBezTo>
                  <a:pt x="19993" y="9387"/>
                  <a:pt x="20028" y="9491"/>
                  <a:pt x="20042" y="9599"/>
                </a:cubicBezTo>
                <a:cubicBezTo>
                  <a:pt x="20042" y="9641"/>
                  <a:pt x="20042" y="9649"/>
                  <a:pt x="20042" y="9674"/>
                </a:cubicBezTo>
              </a:path>
              <a:path w="6351" h="3176">
                <a:moveTo>
                  <a:pt x="19844" y="9475"/>
                </a:moveTo>
                <a:cubicBezTo>
                  <a:pt x="19956" y="9475"/>
                  <a:pt x="20057" y="9441"/>
                  <a:pt x="20166" y="9426"/>
                </a:cubicBezTo>
                <a:cubicBezTo>
                  <a:pt x="20183" y="9426"/>
                  <a:pt x="20199" y="9426"/>
                  <a:pt x="20216" y="9426"/>
                </a:cubicBezTo>
              </a:path>
              <a:path w="6351" h="3176">
                <a:moveTo>
                  <a:pt x="20513" y="9277"/>
                </a:moveTo>
                <a:cubicBezTo>
                  <a:pt x="20513" y="9365"/>
                  <a:pt x="20482" y="9467"/>
                  <a:pt x="20588" y="9475"/>
                </a:cubicBezTo>
                <a:cubicBezTo>
                  <a:pt x="20700" y="9483"/>
                  <a:pt x="20782" y="9469"/>
                  <a:pt x="20861" y="9401"/>
                </a:cubicBezTo>
              </a:path>
              <a:path w="6351" h="3176">
                <a:moveTo>
                  <a:pt x="20762" y="9103"/>
                </a:moveTo>
                <a:cubicBezTo>
                  <a:pt x="20762" y="9230"/>
                  <a:pt x="20780" y="9349"/>
                  <a:pt x="20786" y="9475"/>
                </a:cubicBezTo>
                <a:cubicBezTo>
                  <a:pt x="20791" y="9582"/>
                  <a:pt x="20795" y="9628"/>
                  <a:pt x="20811" y="9723"/>
                </a:cubicBezTo>
              </a:path>
              <a:path w="6351" h="3176">
                <a:moveTo>
                  <a:pt x="21332" y="9252"/>
                </a:moveTo>
                <a:cubicBezTo>
                  <a:pt x="21385" y="9261"/>
                  <a:pt x="21563" y="9415"/>
                  <a:pt x="21630" y="9500"/>
                </a:cubicBezTo>
                <a:cubicBezTo>
                  <a:pt x="21630" y="9525"/>
                  <a:pt x="21630" y="9533"/>
                  <a:pt x="21654" y="9525"/>
                </a:cubicBezTo>
              </a:path>
              <a:path w="6351" h="3176">
                <a:moveTo>
                  <a:pt x="21654" y="9079"/>
                </a:moveTo>
                <a:cubicBezTo>
                  <a:pt x="21569" y="9266"/>
                  <a:pt x="21459" y="9428"/>
                  <a:pt x="21357" y="9599"/>
                </a:cubicBezTo>
                <a:cubicBezTo>
                  <a:pt x="21357" y="9607"/>
                  <a:pt x="21357" y="9616"/>
                  <a:pt x="21357" y="9624"/>
                </a:cubicBezTo>
              </a:path>
              <a:path w="6351" h="3176">
                <a:moveTo>
                  <a:pt x="20811" y="9847"/>
                </a:moveTo>
                <a:cubicBezTo>
                  <a:pt x="20834" y="9940"/>
                  <a:pt x="20828" y="10090"/>
                  <a:pt x="20886" y="10096"/>
                </a:cubicBezTo>
                <a:cubicBezTo>
                  <a:pt x="21124" y="10120"/>
                  <a:pt x="21461" y="10019"/>
                  <a:pt x="21704" y="9996"/>
                </a:cubicBezTo>
                <a:cubicBezTo>
                  <a:pt x="21873" y="9980"/>
                  <a:pt x="22031" y="9971"/>
                  <a:pt x="22200" y="9971"/>
                </a:cubicBezTo>
                <a:cubicBezTo>
                  <a:pt x="22254" y="9971"/>
                  <a:pt x="22304" y="9984"/>
                  <a:pt x="22324" y="9947"/>
                </a:cubicBezTo>
                <a:cubicBezTo>
                  <a:pt x="22365" y="9873"/>
                  <a:pt x="22384" y="9779"/>
                  <a:pt x="22399" y="9699"/>
                </a:cubicBezTo>
              </a:path>
              <a:path w="6351" h="3176">
                <a:moveTo>
                  <a:pt x="21233" y="10344"/>
                </a:moveTo>
                <a:cubicBezTo>
                  <a:pt x="21256" y="10500"/>
                  <a:pt x="21289" y="10657"/>
                  <a:pt x="21307" y="10815"/>
                </a:cubicBezTo>
                <a:cubicBezTo>
                  <a:pt x="21307" y="10866"/>
                  <a:pt x="21308" y="10881"/>
                  <a:pt x="21332" y="10815"/>
                </a:cubicBezTo>
              </a:path>
              <a:path w="6351" h="3176">
                <a:moveTo>
                  <a:pt x="21679" y="10368"/>
                </a:moveTo>
                <a:cubicBezTo>
                  <a:pt x="21779" y="10388"/>
                  <a:pt x="21917" y="10422"/>
                  <a:pt x="21977" y="10517"/>
                </a:cubicBezTo>
                <a:cubicBezTo>
                  <a:pt x="22117" y="10738"/>
                  <a:pt x="21881" y="10849"/>
                  <a:pt x="21704" y="10840"/>
                </a:cubicBezTo>
                <a:cubicBezTo>
                  <a:pt x="21679" y="10832"/>
                  <a:pt x="21655" y="10823"/>
                  <a:pt x="21630" y="10815"/>
                </a:cubicBezTo>
                <a:cubicBezTo>
                  <a:pt x="21679" y="10696"/>
                  <a:pt x="21737" y="10655"/>
                  <a:pt x="21878" y="10740"/>
                </a:cubicBezTo>
                <a:cubicBezTo>
                  <a:pt x="21924" y="10768"/>
                  <a:pt x="21945" y="10825"/>
                  <a:pt x="21977" y="108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885000" y="3776760"/>
            <a:ext cx="1036800" cy="903240"/>
          </a:xfrm>
          <a:custGeom>
            <a:avLst/>
            <a:gdLst/>
            <a:ahLst/>
            <a:rect l="l" t="t" r="r" b="b"/>
            <a:pathLst>
              <a:path w="2879" h="2507">
                <a:moveTo>
                  <a:pt x="19422" y="10517"/>
                </a:moveTo>
                <a:cubicBezTo>
                  <a:pt x="19340" y="10517"/>
                  <a:pt x="19277" y="10505"/>
                  <a:pt x="19199" y="10492"/>
                </a:cubicBezTo>
                <a:cubicBezTo>
                  <a:pt x="19186" y="10585"/>
                  <a:pt x="19175" y="10678"/>
                  <a:pt x="19149" y="10765"/>
                </a:cubicBezTo>
                <a:cubicBezTo>
                  <a:pt x="19238" y="10775"/>
                  <a:pt x="19458" y="10759"/>
                  <a:pt x="19496" y="10864"/>
                </a:cubicBezTo>
                <a:cubicBezTo>
                  <a:pt x="19564" y="11055"/>
                  <a:pt x="19306" y="11147"/>
                  <a:pt x="19174" y="11088"/>
                </a:cubicBezTo>
                <a:cubicBezTo>
                  <a:pt x="19135" y="11049"/>
                  <a:pt x="19118" y="11047"/>
                  <a:pt x="19124" y="11013"/>
                </a:cubicBezTo>
              </a:path>
              <a:path w="2879" h="2507">
                <a:moveTo>
                  <a:pt x="19695" y="10492"/>
                </a:moveTo>
                <a:cubicBezTo>
                  <a:pt x="19695" y="10646"/>
                  <a:pt x="19699" y="10788"/>
                  <a:pt x="19720" y="10939"/>
                </a:cubicBezTo>
                <a:cubicBezTo>
                  <a:pt x="19731" y="11019"/>
                  <a:pt x="19911" y="11016"/>
                  <a:pt x="19968" y="10988"/>
                </a:cubicBezTo>
                <a:cubicBezTo>
                  <a:pt x="20050" y="10948"/>
                  <a:pt x="20124" y="10878"/>
                  <a:pt x="20141" y="10790"/>
                </a:cubicBezTo>
                <a:cubicBezTo>
                  <a:pt x="20030" y="10762"/>
                  <a:pt x="19983" y="10826"/>
                  <a:pt x="19943" y="10939"/>
                </a:cubicBezTo>
                <a:cubicBezTo>
                  <a:pt x="19930" y="10977"/>
                  <a:pt x="19944" y="10980"/>
                  <a:pt x="19968" y="10988"/>
                </a:cubicBezTo>
              </a:path>
              <a:path w="2879" h="2507">
                <a:moveTo>
                  <a:pt x="20563" y="10616"/>
                </a:moveTo>
                <a:cubicBezTo>
                  <a:pt x="20563" y="10718"/>
                  <a:pt x="20579" y="10813"/>
                  <a:pt x="20588" y="10914"/>
                </a:cubicBezTo>
              </a:path>
              <a:path w="2879" h="2507">
                <a:moveTo>
                  <a:pt x="20414" y="10740"/>
                </a:moveTo>
                <a:cubicBezTo>
                  <a:pt x="20522" y="10740"/>
                  <a:pt x="20629" y="10740"/>
                  <a:pt x="20737" y="10740"/>
                </a:cubicBezTo>
              </a:path>
              <a:path w="2879" h="2507">
                <a:moveTo>
                  <a:pt x="19968" y="11261"/>
                </a:moveTo>
                <a:cubicBezTo>
                  <a:pt x="19933" y="11389"/>
                  <a:pt x="19943" y="11522"/>
                  <a:pt x="19943" y="11658"/>
                </a:cubicBezTo>
                <a:cubicBezTo>
                  <a:pt x="19943" y="11666"/>
                  <a:pt x="19943" y="11675"/>
                  <a:pt x="19943" y="11683"/>
                </a:cubicBezTo>
                <a:cubicBezTo>
                  <a:pt x="20104" y="11621"/>
                  <a:pt x="20266" y="11571"/>
                  <a:pt x="20439" y="11534"/>
                </a:cubicBezTo>
                <a:cubicBezTo>
                  <a:pt x="20758" y="11465"/>
                  <a:pt x="21082" y="11453"/>
                  <a:pt x="21406" y="11435"/>
                </a:cubicBezTo>
                <a:cubicBezTo>
                  <a:pt x="21502" y="11430"/>
                  <a:pt x="21523" y="11424"/>
                  <a:pt x="21605" y="11410"/>
                </a:cubicBezTo>
                <a:cubicBezTo>
                  <a:pt x="21630" y="11410"/>
                  <a:pt x="21638" y="11410"/>
                  <a:pt x="21654" y="11410"/>
                </a:cubicBezTo>
                <a:cubicBezTo>
                  <a:pt x="21643" y="11317"/>
                  <a:pt x="21635" y="11230"/>
                  <a:pt x="21630" y="11137"/>
                </a:cubicBezTo>
              </a:path>
              <a:path w="2879" h="2507">
                <a:moveTo>
                  <a:pt x="20563" y="12080"/>
                </a:moveTo>
                <a:cubicBezTo>
                  <a:pt x="20563" y="12213"/>
                  <a:pt x="20484" y="12324"/>
                  <a:pt x="20464" y="12452"/>
                </a:cubicBezTo>
                <a:cubicBezTo>
                  <a:pt x="20443" y="12583"/>
                  <a:pt x="20462" y="12721"/>
                  <a:pt x="20638" y="12700"/>
                </a:cubicBezTo>
                <a:cubicBezTo>
                  <a:pt x="20788" y="12682"/>
                  <a:pt x="20924" y="12541"/>
                  <a:pt x="20960" y="12402"/>
                </a:cubicBezTo>
                <a:cubicBezTo>
                  <a:pt x="20960" y="12358"/>
                  <a:pt x="20963" y="12344"/>
                  <a:pt x="20935" y="12328"/>
                </a:cubicBezTo>
                <a:cubicBezTo>
                  <a:pt x="20755" y="12283"/>
                  <a:pt x="20738" y="12328"/>
                  <a:pt x="20687" y="12502"/>
                </a:cubicBezTo>
                <a:cubicBezTo>
                  <a:pt x="20660" y="12595"/>
                  <a:pt x="20644" y="12594"/>
                  <a:pt x="20687" y="12650"/>
                </a:cubicBezTo>
              </a:path>
              <a:path w="2879" h="2507">
                <a:moveTo>
                  <a:pt x="21282" y="12080"/>
                </a:moveTo>
                <a:cubicBezTo>
                  <a:pt x="21209" y="12091"/>
                  <a:pt x="21034" y="12114"/>
                  <a:pt x="21034" y="12229"/>
                </a:cubicBezTo>
                <a:cubicBezTo>
                  <a:pt x="21034" y="12377"/>
                  <a:pt x="21249" y="12329"/>
                  <a:pt x="21258" y="12452"/>
                </a:cubicBezTo>
                <a:cubicBezTo>
                  <a:pt x="21267" y="12581"/>
                  <a:pt x="21214" y="12551"/>
                  <a:pt x="21134" y="12551"/>
                </a:cubicBezTo>
                <a:cubicBezTo>
                  <a:pt x="21144" y="12407"/>
                  <a:pt x="21233" y="12267"/>
                  <a:pt x="21233" y="12129"/>
                </a:cubicBezTo>
                <a:cubicBezTo>
                  <a:pt x="21200" y="12129"/>
                  <a:pt x="21191" y="12137"/>
                  <a:pt x="21208" y="12179"/>
                </a:cubicBezTo>
              </a:path>
              <a:path w="2879" h="2507">
                <a:moveTo>
                  <a:pt x="20216" y="12898"/>
                </a:moveTo>
                <a:cubicBezTo>
                  <a:pt x="20342" y="12916"/>
                  <a:pt x="20457" y="12953"/>
                  <a:pt x="20588" y="12973"/>
                </a:cubicBezTo>
                <a:cubicBezTo>
                  <a:pt x="20848" y="13013"/>
                  <a:pt x="21180" y="13044"/>
                  <a:pt x="21431" y="12948"/>
                </a:cubicBezTo>
                <a:cubicBezTo>
                  <a:pt x="21684" y="12851"/>
                  <a:pt x="21946" y="12657"/>
                  <a:pt x="22002" y="12378"/>
                </a:cubicBezTo>
                <a:cubicBezTo>
                  <a:pt x="22043" y="12172"/>
                  <a:pt x="21993" y="12009"/>
                  <a:pt x="21828" y="11881"/>
                </a:cubicBezTo>
                <a:cubicBezTo>
                  <a:pt x="21681" y="11767"/>
                  <a:pt x="21441" y="11699"/>
                  <a:pt x="21258" y="11683"/>
                </a:cubicBezTo>
                <a:cubicBezTo>
                  <a:pt x="21035" y="11664"/>
                  <a:pt x="20800" y="11683"/>
                  <a:pt x="20588" y="11757"/>
                </a:cubicBezTo>
                <a:cubicBezTo>
                  <a:pt x="20370" y="11833"/>
                  <a:pt x="20110" y="11980"/>
                  <a:pt x="20017" y="12204"/>
                </a:cubicBezTo>
                <a:cubicBezTo>
                  <a:pt x="19963" y="12336"/>
                  <a:pt x="19978" y="12527"/>
                  <a:pt x="20042" y="12650"/>
                </a:cubicBezTo>
                <a:cubicBezTo>
                  <a:pt x="20124" y="12806"/>
                  <a:pt x="20351" y="12851"/>
                  <a:pt x="20513" y="12874"/>
                </a:cubicBezTo>
                <a:cubicBezTo>
                  <a:pt x="20550" y="12879"/>
                  <a:pt x="20599" y="12874"/>
                  <a:pt x="20638" y="128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143000" y="5322960"/>
            <a:ext cx="6170760" cy="865080"/>
          </a:xfrm>
          <a:custGeom>
            <a:avLst/>
            <a:gdLst/>
            <a:ahLst/>
            <a:rect l="l" t="t" r="r" b="b"/>
            <a:pathLst>
              <a:path w="17141" h="2407">
                <a:moveTo>
                  <a:pt x="3175" y="14808"/>
                </a:moveTo>
                <a:cubicBezTo>
                  <a:pt x="3183" y="14800"/>
                  <a:pt x="3192" y="14792"/>
                  <a:pt x="3200" y="14784"/>
                </a:cubicBezTo>
              </a:path>
              <a:path w="17141" h="2407">
                <a:moveTo>
                  <a:pt x="3200" y="14784"/>
                </a:moveTo>
                <a:lnTo>
                  <a:pt x="3200" y="14784"/>
                </a:lnTo>
              </a:path>
              <a:path w="17141" h="2407">
                <a:moveTo>
                  <a:pt x="3200" y="14784"/>
                </a:moveTo>
                <a:lnTo>
                  <a:pt x="3200" y="14784"/>
                </a:lnTo>
              </a:path>
              <a:path w="17141" h="2407">
                <a:moveTo>
                  <a:pt x="3200" y="14808"/>
                </a:moveTo>
                <a:lnTo>
                  <a:pt x="3200" y="14808"/>
                </a:lnTo>
              </a:path>
              <a:path w="17141" h="2407">
                <a:moveTo>
                  <a:pt x="20216" y="15528"/>
                </a:moveTo>
                <a:cubicBezTo>
                  <a:pt x="20223" y="15494"/>
                  <a:pt x="20315" y="15361"/>
                  <a:pt x="20315" y="15379"/>
                </a:cubicBezTo>
                <a:cubicBezTo>
                  <a:pt x="20307" y="15404"/>
                  <a:pt x="20298" y="15428"/>
                  <a:pt x="20290" y="15453"/>
                </a:cubicBezTo>
              </a:path>
              <a:path w="17141" h="2407">
                <a:moveTo>
                  <a:pt x="18628" y="17190"/>
                </a:moveTo>
                <a:cubicBezTo>
                  <a:pt x="18760" y="17162"/>
                  <a:pt x="18892" y="17139"/>
                  <a:pt x="19025" y="1711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52360" y="5276880"/>
            <a:ext cx="820800" cy="679320"/>
          </a:xfrm>
          <a:custGeom>
            <a:avLst/>
            <a:gdLst/>
            <a:ahLst/>
            <a:rect l="l" t="t" r="r" b="b"/>
            <a:pathLst>
              <a:path w="2283" h="1886">
                <a:moveTo>
                  <a:pt x="3200" y="14908"/>
                </a:moveTo>
                <a:cubicBezTo>
                  <a:pt x="3200" y="14990"/>
                  <a:pt x="3189" y="15021"/>
                  <a:pt x="3225" y="15081"/>
                </a:cubicBezTo>
                <a:cubicBezTo>
                  <a:pt x="3421" y="15046"/>
                  <a:pt x="3614" y="14991"/>
                  <a:pt x="3820" y="14982"/>
                </a:cubicBezTo>
                <a:cubicBezTo>
                  <a:pt x="4128" y="14968"/>
                  <a:pt x="4432" y="14992"/>
                  <a:pt x="4738" y="15007"/>
                </a:cubicBezTo>
                <a:cubicBezTo>
                  <a:pt x="4820" y="15011"/>
                  <a:pt x="4904" y="15007"/>
                  <a:pt x="4986" y="15007"/>
                </a:cubicBezTo>
                <a:cubicBezTo>
                  <a:pt x="4953" y="14905"/>
                  <a:pt x="4916" y="14815"/>
                  <a:pt x="4911" y="14709"/>
                </a:cubicBezTo>
                <a:cubicBezTo>
                  <a:pt x="4911" y="14668"/>
                  <a:pt x="4919" y="14652"/>
                  <a:pt x="4887" y="14660"/>
                </a:cubicBezTo>
              </a:path>
              <a:path w="2283" h="1886">
                <a:moveTo>
                  <a:pt x="4266" y="15429"/>
                </a:moveTo>
                <a:cubicBezTo>
                  <a:pt x="4160" y="15280"/>
                  <a:pt x="3947" y="15383"/>
                  <a:pt x="3795" y="15478"/>
                </a:cubicBezTo>
                <a:cubicBezTo>
                  <a:pt x="3686" y="15565"/>
                  <a:pt x="3645" y="15578"/>
                  <a:pt x="3671" y="15677"/>
                </a:cubicBezTo>
                <a:cubicBezTo>
                  <a:pt x="3861" y="15783"/>
                  <a:pt x="4061" y="15827"/>
                  <a:pt x="3994" y="16049"/>
                </a:cubicBezTo>
                <a:cubicBezTo>
                  <a:pt x="3811" y="15970"/>
                  <a:pt x="3800" y="15848"/>
                  <a:pt x="3894" y="15652"/>
                </a:cubicBezTo>
                <a:cubicBezTo>
                  <a:pt x="3951" y="15533"/>
                  <a:pt x="3950" y="15538"/>
                  <a:pt x="4043" y="15528"/>
                </a:cubicBezTo>
              </a:path>
              <a:path w="2283" h="1886">
                <a:moveTo>
                  <a:pt x="4539" y="15652"/>
                </a:moveTo>
                <a:cubicBezTo>
                  <a:pt x="4539" y="15716"/>
                  <a:pt x="4539" y="16243"/>
                  <a:pt x="4539" y="15974"/>
                </a:cubicBezTo>
              </a:path>
              <a:path w="2283" h="1886">
                <a:moveTo>
                  <a:pt x="4390" y="15825"/>
                </a:moveTo>
                <a:cubicBezTo>
                  <a:pt x="4548" y="15825"/>
                  <a:pt x="4719" y="15826"/>
                  <a:pt x="4862" y="15850"/>
                </a:cubicBezTo>
                <a:cubicBezTo>
                  <a:pt x="4878" y="15850"/>
                  <a:pt x="4895" y="15850"/>
                  <a:pt x="4911" y="15850"/>
                </a:cubicBezTo>
              </a:path>
              <a:path w="2283" h="1886">
                <a:moveTo>
                  <a:pt x="5432" y="15577"/>
                </a:moveTo>
                <a:cubicBezTo>
                  <a:pt x="5419" y="15512"/>
                  <a:pt x="5372" y="15354"/>
                  <a:pt x="5283" y="15354"/>
                </a:cubicBezTo>
                <a:cubicBezTo>
                  <a:pt x="5107" y="15354"/>
                  <a:pt x="5076" y="15540"/>
                  <a:pt x="5035" y="15652"/>
                </a:cubicBezTo>
                <a:cubicBezTo>
                  <a:pt x="5284" y="15775"/>
                  <a:pt x="5306" y="15652"/>
                  <a:pt x="5482" y="15478"/>
                </a:cubicBezTo>
                <a:cubicBezTo>
                  <a:pt x="5482" y="15486"/>
                  <a:pt x="5482" y="15495"/>
                  <a:pt x="5482" y="15503"/>
                </a:cubicBezTo>
                <a:cubicBezTo>
                  <a:pt x="5482" y="15665"/>
                  <a:pt x="5492" y="15866"/>
                  <a:pt x="5457" y="16024"/>
                </a:cubicBezTo>
                <a:cubicBezTo>
                  <a:pt x="5449" y="16032"/>
                  <a:pt x="5440" y="16041"/>
                  <a:pt x="5432" y="16049"/>
                </a:cubicBezTo>
              </a:path>
              <a:path w="2283" h="1886">
                <a:moveTo>
                  <a:pt x="3919" y="16173"/>
                </a:moveTo>
                <a:cubicBezTo>
                  <a:pt x="3936" y="16271"/>
                  <a:pt x="3946" y="16500"/>
                  <a:pt x="3969" y="16545"/>
                </a:cubicBezTo>
                <a:cubicBezTo>
                  <a:pt x="4262" y="16481"/>
                  <a:pt x="4534" y="16452"/>
                  <a:pt x="4837" y="16470"/>
                </a:cubicBezTo>
                <a:cubicBezTo>
                  <a:pt x="4986" y="16489"/>
                  <a:pt x="5002" y="16497"/>
                  <a:pt x="5085" y="16495"/>
                </a:cubicBezTo>
                <a:cubicBezTo>
                  <a:pt x="5097" y="16369"/>
                  <a:pt x="5121" y="16268"/>
                  <a:pt x="5159" y="1614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134040" y="5241960"/>
            <a:ext cx="1474920" cy="527040"/>
          </a:xfrm>
          <a:custGeom>
            <a:avLst/>
            <a:gdLst/>
            <a:ahLst/>
            <a:rect l="l" t="t" r="r" b="b"/>
            <a:pathLst>
              <a:path w="4094" h="1465">
                <a:moveTo>
                  <a:pt x="18653" y="14784"/>
                </a:moveTo>
                <a:cubicBezTo>
                  <a:pt x="18653" y="14776"/>
                  <a:pt x="18653" y="14767"/>
                  <a:pt x="18653" y="14759"/>
                </a:cubicBezTo>
                <a:cubicBezTo>
                  <a:pt x="18653" y="14842"/>
                  <a:pt x="18670" y="14874"/>
                  <a:pt x="18678" y="14957"/>
                </a:cubicBezTo>
                <a:cubicBezTo>
                  <a:pt x="18678" y="14999"/>
                  <a:pt x="18678" y="15007"/>
                  <a:pt x="18678" y="15032"/>
                </a:cubicBezTo>
                <a:cubicBezTo>
                  <a:pt x="18847" y="15009"/>
                  <a:pt x="19030" y="14968"/>
                  <a:pt x="19199" y="14957"/>
                </a:cubicBezTo>
                <a:cubicBezTo>
                  <a:pt x="19420" y="14942"/>
                  <a:pt x="19647" y="14932"/>
                  <a:pt x="19869" y="14932"/>
                </a:cubicBezTo>
                <a:cubicBezTo>
                  <a:pt x="19918" y="14932"/>
                  <a:pt x="19968" y="14932"/>
                  <a:pt x="20017" y="14932"/>
                </a:cubicBezTo>
                <a:cubicBezTo>
                  <a:pt x="20017" y="14808"/>
                  <a:pt x="20017" y="14684"/>
                  <a:pt x="20017" y="14560"/>
                </a:cubicBezTo>
              </a:path>
              <a:path w="4094" h="1465">
                <a:moveTo>
                  <a:pt x="19149" y="15379"/>
                </a:moveTo>
                <a:cubicBezTo>
                  <a:pt x="19212" y="15337"/>
                  <a:pt x="19129" y="15529"/>
                  <a:pt x="19124" y="15577"/>
                </a:cubicBezTo>
                <a:cubicBezTo>
                  <a:pt x="19124" y="15655"/>
                  <a:pt x="19140" y="15673"/>
                  <a:pt x="19100" y="15701"/>
                </a:cubicBezTo>
                <a:cubicBezTo>
                  <a:pt x="19260" y="15681"/>
                  <a:pt x="19413" y="15630"/>
                  <a:pt x="19571" y="15602"/>
                </a:cubicBezTo>
                <a:cubicBezTo>
                  <a:pt x="19579" y="15602"/>
                  <a:pt x="19588" y="15602"/>
                  <a:pt x="19596" y="15602"/>
                </a:cubicBezTo>
              </a:path>
              <a:path w="4094" h="1465">
                <a:moveTo>
                  <a:pt x="19472" y="15156"/>
                </a:moveTo>
                <a:cubicBezTo>
                  <a:pt x="19484" y="15384"/>
                  <a:pt x="19479" y="15598"/>
                  <a:pt x="19472" y="15825"/>
                </a:cubicBezTo>
                <a:cubicBezTo>
                  <a:pt x="19471" y="15850"/>
                  <a:pt x="19472" y="15875"/>
                  <a:pt x="19472" y="15900"/>
                </a:cubicBezTo>
              </a:path>
              <a:path w="4094" h="1465">
                <a:moveTo>
                  <a:pt x="17041" y="15354"/>
                </a:moveTo>
                <a:cubicBezTo>
                  <a:pt x="17068" y="15561"/>
                  <a:pt x="17092" y="15767"/>
                  <a:pt x="17115" y="15974"/>
                </a:cubicBezTo>
                <a:cubicBezTo>
                  <a:pt x="17115" y="16024"/>
                  <a:pt x="17115" y="16007"/>
                  <a:pt x="17115" y="15900"/>
                </a:cubicBezTo>
              </a:path>
              <a:path w="4094" h="1465">
                <a:moveTo>
                  <a:pt x="17363" y="15429"/>
                </a:moveTo>
                <a:cubicBezTo>
                  <a:pt x="17451" y="15327"/>
                  <a:pt x="17598" y="15252"/>
                  <a:pt x="17686" y="15429"/>
                </a:cubicBezTo>
                <a:cubicBezTo>
                  <a:pt x="17760" y="15579"/>
                  <a:pt x="17764" y="15862"/>
                  <a:pt x="17562" y="15925"/>
                </a:cubicBezTo>
                <a:cubicBezTo>
                  <a:pt x="17494" y="15946"/>
                  <a:pt x="17398" y="15928"/>
                  <a:pt x="17363" y="15875"/>
                </a:cubicBezTo>
                <a:cubicBezTo>
                  <a:pt x="17363" y="15867"/>
                  <a:pt x="17363" y="15858"/>
                  <a:pt x="17363" y="15850"/>
                </a:cubicBezTo>
                <a:cubicBezTo>
                  <a:pt x="17554" y="15769"/>
                  <a:pt x="17630" y="15811"/>
                  <a:pt x="17785" y="15949"/>
                </a:cubicBezTo>
                <a:cubicBezTo>
                  <a:pt x="17831" y="15995"/>
                  <a:pt x="17843" y="16010"/>
                  <a:pt x="17884" y="16024"/>
                </a:cubicBezTo>
              </a:path>
              <a:path w="4094" h="1465">
                <a:moveTo>
                  <a:pt x="18455" y="15602"/>
                </a:moveTo>
                <a:cubicBezTo>
                  <a:pt x="18482" y="15699"/>
                  <a:pt x="18529" y="15800"/>
                  <a:pt x="18554" y="15900"/>
                </a:cubicBezTo>
                <a:cubicBezTo>
                  <a:pt x="18554" y="15908"/>
                  <a:pt x="18554" y="15917"/>
                  <a:pt x="18554" y="15925"/>
                </a:cubicBezTo>
              </a:path>
              <a:path w="4094" h="1465">
                <a:moveTo>
                  <a:pt x="18331" y="15801"/>
                </a:moveTo>
                <a:cubicBezTo>
                  <a:pt x="18448" y="15776"/>
                  <a:pt x="18557" y="15776"/>
                  <a:pt x="18678" y="15776"/>
                </a:cubicBezTo>
              </a:path>
              <a:path w="4094" h="1465">
                <a:moveTo>
                  <a:pt x="20017" y="15478"/>
                </a:moveTo>
                <a:cubicBezTo>
                  <a:pt x="20173" y="15590"/>
                  <a:pt x="20302" y="15714"/>
                  <a:pt x="20439" y="15850"/>
                </a:cubicBezTo>
              </a:path>
              <a:path w="4094" h="1465">
                <a:moveTo>
                  <a:pt x="20265" y="15528"/>
                </a:moveTo>
                <a:cubicBezTo>
                  <a:pt x="20242" y="15571"/>
                  <a:pt x="20074" y="15829"/>
                  <a:pt x="20117" y="15850"/>
                </a:cubicBezTo>
              </a:path>
              <a:path w="4094" h="1465">
                <a:moveTo>
                  <a:pt x="21084" y="15280"/>
                </a:moveTo>
                <a:cubicBezTo>
                  <a:pt x="21051" y="15288"/>
                  <a:pt x="20792" y="15317"/>
                  <a:pt x="20786" y="15329"/>
                </a:cubicBezTo>
                <a:cubicBezTo>
                  <a:pt x="20743" y="15416"/>
                  <a:pt x="20769" y="15566"/>
                  <a:pt x="20737" y="15652"/>
                </a:cubicBezTo>
                <a:cubicBezTo>
                  <a:pt x="20848" y="15652"/>
                  <a:pt x="20919" y="15577"/>
                  <a:pt x="21034" y="15577"/>
                </a:cubicBezTo>
                <a:cubicBezTo>
                  <a:pt x="21067" y="15585"/>
                  <a:pt x="21101" y="15594"/>
                  <a:pt x="21134" y="15602"/>
                </a:cubicBezTo>
                <a:cubicBezTo>
                  <a:pt x="21086" y="15874"/>
                  <a:pt x="20998" y="15873"/>
                  <a:pt x="20737" y="1590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347840" y="5965920"/>
            <a:ext cx="581040" cy="436320"/>
          </a:xfrm>
          <a:custGeom>
            <a:avLst/>
            <a:gdLst/>
            <a:ahLst/>
            <a:rect l="l" t="t" r="r" b="b"/>
            <a:pathLst>
              <a:path w="1613" h="1216">
                <a:moveTo>
                  <a:pt x="4242" y="16818"/>
                </a:moveTo>
                <a:cubicBezTo>
                  <a:pt x="4261" y="17017"/>
                  <a:pt x="4069" y="17512"/>
                  <a:pt x="4242" y="17413"/>
                </a:cubicBezTo>
                <a:cubicBezTo>
                  <a:pt x="4258" y="17388"/>
                  <a:pt x="4275" y="17363"/>
                  <a:pt x="4291" y="17338"/>
                </a:cubicBezTo>
              </a:path>
              <a:path w="1613" h="1216">
                <a:moveTo>
                  <a:pt x="4514" y="16818"/>
                </a:moveTo>
                <a:cubicBezTo>
                  <a:pt x="4646" y="16818"/>
                  <a:pt x="4779" y="16818"/>
                  <a:pt x="4911" y="16818"/>
                </a:cubicBezTo>
                <a:cubicBezTo>
                  <a:pt x="4948" y="17020"/>
                  <a:pt x="4856" y="17230"/>
                  <a:pt x="4812" y="17438"/>
                </a:cubicBezTo>
                <a:cubicBezTo>
                  <a:pt x="4812" y="17454"/>
                  <a:pt x="4812" y="17471"/>
                  <a:pt x="4812" y="17487"/>
                </a:cubicBezTo>
              </a:path>
              <a:path w="1613" h="1216">
                <a:moveTo>
                  <a:pt x="3919" y="17686"/>
                </a:moveTo>
                <a:cubicBezTo>
                  <a:pt x="4228" y="17796"/>
                  <a:pt x="4511" y="17808"/>
                  <a:pt x="4837" y="17711"/>
                </a:cubicBezTo>
                <a:cubicBezTo>
                  <a:pt x="5115" y="17628"/>
                  <a:pt x="5410" y="17443"/>
                  <a:pt x="5358" y="17115"/>
                </a:cubicBezTo>
                <a:cubicBezTo>
                  <a:pt x="5308" y="16798"/>
                  <a:pt x="5028" y="16694"/>
                  <a:pt x="4762" y="16619"/>
                </a:cubicBezTo>
                <a:cubicBezTo>
                  <a:pt x="4509" y="16548"/>
                  <a:pt x="4297" y="16552"/>
                  <a:pt x="4068" y="16694"/>
                </a:cubicBezTo>
                <a:cubicBezTo>
                  <a:pt x="3823" y="16846"/>
                  <a:pt x="3719" y="16991"/>
                  <a:pt x="3746" y="17289"/>
                </a:cubicBezTo>
                <a:cubicBezTo>
                  <a:pt x="3782" y="17683"/>
                  <a:pt x="4156" y="17776"/>
                  <a:pt x="4490" y="17711"/>
                </a:cubicBezTo>
                <a:cubicBezTo>
                  <a:pt x="4548" y="17686"/>
                  <a:pt x="4605" y="17661"/>
                  <a:pt x="4663" y="176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796080" y="5749920"/>
            <a:ext cx="677880" cy="501480"/>
          </a:xfrm>
          <a:custGeom>
            <a:avLst/>
            <a:gdLst/>
            <a:ahLst/>
            <a:rect l="l" t="t" r="r" b="b"/>
            <a:pathLst>
              <a:path w="1887" h="1390">
                <a:moveTo>
                  <a:pt x="19571" y="16024"/>
                </a:moveTo>
                <a:cubicBezTo>
                  <a:pt x="19571" y="16065"/>
                  <a:pt x="19571" y="16107"/>
                  <a:pt x="19571" y="16148"/>
                </a:cubicBezTo>
                <a:cubicBezTo>
                  <a:pt x="19717" y="16148"/>
                  <a:pt x="19846" y="16091"/>
                  <a:pt x="19993" y="16073"/>
                </a:cubicBezTo>
                <a:cubicBezTo>
                  <a:pt x="20209" y="16047"/>
                  <a:pt x="20421" y="16049"/>
                  <a:pt x="20638" y="16049"/>
                </a:cubicBezTo>
                <a:cubicBezTo>
                  <a:pt x="20684" y="16049"/>
                  <a:pt x="20724" y="16035"/>
                  <a:pt x="20737" y="16073"/>
                </a:cubicBezTo>
              </a:path>
              <a:path w="1887" h="1390">
                <a:moveTo>
                  <a:pt x="20762" y="15974"/>
                </a:moveTo>
                <a:cubicBezTo>
                  <a:pt x="20737" y="15974"/>
                  <a:pt x="20729" y="15974"/>
                  <a:pt x="20712" y="15974"/>
                </a:cubicBezTo>
                <a:cubicBezTo>
                  <a:pt x="20712" y="16036"/>
                  <a:pt x="20715" y="16094"/>
                  <a:pt x="20737" y="16123"/>
                </a:cubicBezTo>
              </a:path>
              <a:path w="1887" h="1390">
                <a:moveTo>
                  <a:pt x="19794" y="16793"/>
                </a:moveTo>
                <a:cubicBezTo>
                  <a:pt x="19759" y="16758"/>
                  <a:pt x="19967" y="16764"/>
                  <a:pt x="20017" y="16842"/>
                </a:cubicBezTo>
                <a:cubicBezTo>
                  <a:pt x="20162" y="17069"/>
                  <a:pt x="19906" y="17350"/>
                  <a:pt x="19670" y="17338"/>
                </a:cubicBezTo>
                <a:cubicBezTo>
                  <a:pt x="19645" y="17322"/>
                  <a:pt x="19621" y="17305"/>
                  <a:pt x="19596" y="17289"/>
                </a:cubicBezTo>
                <a:cubicBezTo>
                  <a:pt x="19706" y="17123"/>
                  <a:pt x="19828" y="17004"/>
                  <a:pt x="20042" y="17140"/>
                </a:cubicBezTo>
                <a:cubicBezTo>
                  <a:pt x="20104" y="17201"/>
                  <a:pt x="20110" y="17225"/>
                  <a:pt x="20166" y="17214"/>
                </a:cubicBezTo>
              </a:path>
              <a:path w="1887" h="1390">
                <a:moveTo>
                  <a:pt x="20464" y="16718"/>
                </a:moveTo>
                <a:cubicBezTo>
                  <a:pt x="20366" y="16894"/>
                  <a:pt x="20319" y="16932"/>
                  <a:pt x="20365" y="17115"/>
                </a:cubicBezTo>
                <a:cubicBezTo>
                  <a:pt x="20594" y="17084"/>
                  <a:pt x="20601" y="17070"/>
                  <a:pt x="20737" y="16892"/>
                </a:cubicBezTo>
                <a:cubicBezTo>
                  <a:pt x="20610" y="16696"/>
                  <a:pt x="20618" y="16736"/>
                  <a:pt x="20365" y="16718"/>
                </a:cubicBezTo>
              </a:path>
              <a:path w="1887" h="1390">
                <a:moveTo>
                  <a:pt x="18876" y="16917"/>
                </a:moveTo>
                <a:cubicBezTo>
                  <a:pt x="18876" y="17029"/>
                  <a:pt x="18942" y="17263"/>
                  <a:pt x="18901" y="17363"/>
                </a:cubicBezTo>
                <a:cubicBezTo>
                  <a:pt x="18893" y="17355"/>
                  <a:pt x="18884" y="17346"/>
                  <a:pt x="18876" y="173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392880" y="6116760"/>
            <a:ext cx="858960" cy="662040"/>
          </a:xfrm>
          <a:custGeom>
            <a:avLst/>
            <a:gdLst/>
            <a:ahLst/>
            <a:rect l="l" t="t" r="r" b="b"/>
            <a:pathLst>
              <a:path w="2382" h="1837">
                <a:moveTo>
                  <a:pt x="17760" y="17016"/>
                </a:moveTo>
                <a:cubicBezTo>
                  <a:pt x="17771" y="17182"/>
                  <a:pt x="17785" y="17344"/>
                  <a:pt x="17785" y="17512"/>
                </a:cubicBezTo>
              </a:path>
              <a:path w="2382" h="1837">
                <a:moveTo>
                  <a:pt x="18083" y="17016"/>
                </a:moveTo>
                <a:cubicBezTo>
                  <a:pt x="18251" y="16985"/>
                  <a:pt x="18391" y="17057"/>
                  <a:pt x="18380" y="17264"/>
                </a:cubicBezTo>
                <a:cubicBezTo>
                  <a:pt x="18372" y="17402"/>
                  <a:pt x="18215" y="17636"/>
                  <a:pt x="18058" y="17487"/>
                </a:cubicBezTo>
                <a:cubicBezTo>
                  <a:pt x="18050" y="17462"/>
                  <a:pt x="18041" y="17438"/>
                  <a:pt x="18033" y="17413"/>
                </a:cubicBezTo>
                <a:cubicBezTo>
                  <a:pt x="18149" y="17343"/>
                  <a:pt x="18307" y="17341"/>
                  <a:pt x="18430" y="17438"/>
                </a:cubicBezTo>
                <a:cubicBezTo>
                  <a:pt x="18446" y="17463"/>
                  <a:pt x="18463" y="17487"/>
                  <a:pt x="18479" y="17512"/>
                </a:cubicBezTo>
              </a:path>
              <a:path w="2382" h="1837">
                <a:moveTo>
                  <a:pt x="18653" y="17934"/>
                </a:moveTo>
                <a:cubicBezTo>
                  <a:pt x="18743" y="17919"/>
                  <a:pt x="18882" y="17856"/>
                  <a:pt x="18951" y="17959"/>
                </a:cubicBezTo>
                <a:cubicBezTo>
                  <a:pt x="19016" y="18056"/>
                  <a:pt x="18832" y="18161"/>
                  <a:pt x="18777" y="18207"/>
                </a:cubicBezTo>
                <a:cubicBezTo>
                  <a:pt x="18848" y="18207"/>
                  <a:pt x="19007" y="18199"/>
                  <a:pt x="18951" y="18331"/>
                </a:cubicBezTo>
                <a:cubicBezTo>
                  <a:pt x="18919" y="18408"/>
                  <a:pt x="18604" y="18552"/>
                  <a:pt x="18604" y="18405"/>
                </a:cubicBezTo>
                <a:cubicBezTo>
                  <a:pt x="18620" y="18372"/>
                  <a:pt x="18637" y="18339"/>
                  <a:pt x="18653" y="18306"/>
                </a:cubicBezTo>
              </a:path>
              <a:path w="2382" h="1837">
                <a:moveTo>
                  <a:pt x="19298" y="17859"/>
                </a:moveTo>
                <a:cubicBezTo>
                  <a:pt x="19421" y="17825"/>
                  <a:pt x="19571" y="17890"/>
                  <a:pt x="19571" y="18058"/>
                </a:cubicBezTo>
                <a:cubicBezTo>
                  <a:pt x="19571" y="18270"/>
                  <a:pt x="19357" y="18335"/>
                  <a:pt x="19199" y="18306"/>
                </a:cubicBezTo>
                <a:cubicBezTo>
                  <a:pt x="19307" y="18119"/>
                  <a:pt x="19373" y="18149"/>
                  <a:pt x="19546" y="18281"/>
                </a:cubicBezTo>
                <a:cubicBezTo>
                  <a:pt x="19554" y="18289"/>
                  <a:pt x="19563" y="18298"/>
                  <a:pt x="19571" y="18306"/>
                </a:cubicBezTo>
              </a:path>
              <a:path w="2382" h="1837">
                <a:moveTo>
                  <a:pt x="18380" y="18777"/>
                </a:moveTo>
                <a:cubicBezTo>
                  <a:pt x="18826" y="18859"/>
                  <a:pt x="19175" y="18793"/>
                  <a:pt x="19596" y="18604"/>
                </a:cubicBezTo>
                <a:cubicBezTo>
                  <a:pt x="19781" y="18521"/>
                  <a:pt x="20282" y="18264"/>
                  <a:pt x="20117" y="17959"/>
                </a:cubicBezTo>
                <a:cubicBezTo>
                  <a:pt x="19991" y="17726"/>
                  <a:pt x="19622" y="17596"/>
                  <a:pt x="19372" y="17661"/>
                </a:cubicBezTo>
                <a:cubicBezTo>
                  <a:pt x="19364" y="17678"/>
                  <a:pt x="19356" y="17694"/>
                  <a:pt x="19348" y="17711"/>
                </a:cubicBezTo>
              </a:path>
              <a:path w="2382" h="1837">
                <a:moveTo>
                  <a:pt x="19397" y="17835"/>
                </a:moveTo>
                <a:cubicBezTo>
                  <a:pt x="19359" y="17797"/>
                  <a:pt x="19385" y="17784"/>
                  <a:pt x="19298" y="17735"/>
                </a:cubicBezTo>
                <a:cubicBezTo>
                  <a:pt x="19120" y="17634"/>
                  <a:pt x="18981" y="17699"/>
                  <a:pt x="18802" y="17760"/>
                </a:cubicBezTo>
                <a:cubicBezTo>
                  <a:pt x="18619" y="17822"/>
                  <a:pt x="18403" y="17850"/>
                  <a:pt x="18331" y="18058"/>
                </a:cubicBezTo>
                <a:cubicBezTo>
                  <a:pt x="18290" y="18177"/>
                  <a:pt x="18184" y="18458"/>
                  <a:pt x="18256" y="18579"/>
                </a:cubicBezTo>
                <a:cubicBezTo>
                  <a:pt x="18364" y="18762"/>
                  <a:pt x="18601" y="18697"/>
                  <a:pt x="18777" y="1870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it Tick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66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– 2 + 9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÷ 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0 + (15 – 1) ÷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ff"/>
              </a:buClr>
              <a:buSzPct val="8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7 – 4) x 3 +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ff"/>
              </a:buClr>
              <a:buSzPct val="8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1 – 6 – 12 ÷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W pg. 7   2-10 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0T14:18:38Z</dcterms:created>
  <dc:creator>ccps</dc:creator>
  <dc:description/>
  <dc:language>en-US</dc:language>
  <cp:lastModifiedBy>deanne mcgrath</cp:lastModifiedBy>
  <dcterms:modified xsi:type="dcterms:W3CDTF">2011-09-07T19:25:31Z</dcterms:modified>
  <cp:revision>48</cp:revision>
  <dc:subject/>
  <dc:title>Unit 1 – Variables and Equations </dc:title>
</cp:coreProperties>
</file>